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6951663" cy="50292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dt" idx="11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sldImg"/>
          </p:nvPr>
        </p:nvSpPr>
        <p:spPr>
          <a:xfrm>
            <a:off x="1170000" y="720360"/>
            <a:ext cx="49752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move the slide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ftr" idx="12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 type="sldNum" idx="13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713FE-678F-4872-99AC-FECBF13B145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1261ED-35A5-4AD5-845F-C1CBE912BC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73240" y="720720"/>
            <a:ext cx="4975200" cy="360036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F39C-52A6-4B4D-B970-9C60EED66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07CE8-DF98-4DE6-B93E-F58557AAE12B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CA241-3363-4D7F-A5B3-19B7543A90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957F7-FC29-441C-9A7A-5CE00E244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8DDEF-1D36-467D-99BA-C6A6BBE2AC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7B625-EA19-42F3-A7FC-4010025C03E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C381F-44F8-4C53-8F5B-04288ECB80A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78AB2-B9D3-435E-A082-F62C695DAD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3733A-C36E-4DAE-9747-E21B4A0D7D7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0B558-6D59-4EA4-80AF-3B6E068FA22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8C478-AA99-4972-AA99-B5C923FCB8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25AEE-ACC6-44B9-BD56-31CDEBB7CC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B3967-521E-4D74-9FAB-3154116AE9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B56E-F6B0-4054-BD2E-23DAC52ADC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BBFA9-9A20-4C76-9100-73BE6EAF6E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14DF4-1B0D-4D4C-9969-E346A24ED3A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6EA8F-296B-45F0-A556-D9523BED15A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DDFF-B0A8-4DFF-8D60-1B6665364D0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02550-523D-4A19-B391-CF42F6B60D5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48C3-20F0-49FC-BF3D-9A94E3970A3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62D-2F20-44B9-8456-164DAF2A68E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580B-0AF0-4683-BA4B-603EAEA8D1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5E2B4-0E2C-4264-B52E-7016FC9FFDA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5EC2-96E4-4D40-BC51-B1F1F575A75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F4284-8121-4595-891B-AE9CE6A55D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621D-24F4-4E09-8F61-2760F21FE6A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FCD-E9B5-4D75-8A22-5FD33DE1A2E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7A54-AE7D-4100-A802-31591BB817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474A-58FC-42D5-93D5-01DE1AF5FC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5289-98FB-4073-BBA3-9D7463DE25F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46780C-66BE-4785-AE4C-910A19E267D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FF0A84-4FA7-4A2A-8FD6-AE0601F17DB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99B98-8AF3-4BE1-ACED-799F88D41E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5082-E984-4FCA-8BF4-2090AA424F4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25ECA-CAA3-4B9D-888C-8F5981B272E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3654E-11A6-4F8D-8E72-C074170022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F350C6-9AE2-4AF7-9207-EAE13DC2E8F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BAD81-7CD1-45FB-8AA4-C34C02D9D1D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C1D187-2FB5-4F87-9475-F3756B64DF4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E5A28F-DEFD-4AC6-BAA4-D07027B7D0E2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7681F-D667-4734-8796-C7A6225D0C8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E21C07-576D-4974-BFB9-F44C63E3079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B8EABB-9F6C-446A-B84E-5ED4D974A4F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CCF52A-A8DD-4F0B-992C-FF1F106FA9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FE18B-8709-48F4-8AB2-CE5FCAEF338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6891B-B26E-49F2-B9D6-64CFA673A90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34F2E7-01F4-403E-8E6D-F0B453F75D2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5680E4-54B5-44A2-8FB3-B45F797E0D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3E8130-EFC5-41D3-89E2-35CE48A19F2B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C4EA8-FC06-46B1-A1AE-A62F8675A1B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18A0A8-BF4C-48E6-BC79-9254A5BA4686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326FD-883E-40CB-8E84-3A32A03C527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5B8B34-FD8B-4906-A6A1-00DE3AC3C0B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E0E20F-DD0C-4B4F-AF59-1FD734750D7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0F4932-C8FB-41F5-B2EC-980269576D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C961-D84D-4EF2-B033-71147E90C82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FF531-62A1-4530-90C9-A9D39EF5DF2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D48F6-286F-4F92-A30D-3B831E233603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3D4A4-68CF-4E4A-93A5-95D672AA912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42741-9420-4307-99A0-4CE35F59E229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BDE78-4CEF-4DB3-AEA0-45F3C0B5CF7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2DD9F-D05A-47F8-8C12-D153D5504C0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9DD32-968D-4F47-B404-DB6FA9AFF5B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55C89-0F82-4649-A805-F2681C83904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D7C47-A344-4388-89E9-BF8F81A7CF9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E5F6F-65B6-4E11-B5C3-00946059C56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30C83-283D-4373-9411-D9B5DA40F73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031D-AA86-4D6B-869F-28603F3E62DD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7BB0-2C89-4F39-B05E-E08A1E234BD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0A4C-8254-4CAF-9499-FBA8CEF2688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D7AAA4-91FE-4CAB-B80A-D8BFB585CD0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622EFA-A45C-4C21-B06D-1D8E7469E5A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40D54E-0FDB-423E-8E9D-28E895F1A35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582AF2-FD39-491C-A45C-F85D62F45B1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4FEE90-E675-407B-8B02-59651E099AA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F0EFD8-0D65-43AA-A223-2DF940B4932B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255DE13-6531-47F8-887B-04A763E16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58335-DA2A-4423-A056-F1B1F365AB2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2ED5E0-181D-4BAD-9455-5D60A085F12F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3C9B9C-D115-41C5-B745-2AA2070F0382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64CF0B-6A84-4B41-9951-7641F36C498C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2C8E03-1BD0-449D-97DD-0623F016D273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3BF085-ABCE-4323-BAD7-FB4F77BE6A2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424A7-16C0-4E0D-BBD1-34AAC585BF4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4B96A9-930F-43AA-AB5D-A95D45116182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85D5FD-6A25-4E1C-BDFF-B4B32D4440A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E281D-DD6C-43C1-A1BC-FD75C01D6DF9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12F5FE-7A1B-41FD-B121-E83B60649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96497-64F5-4195-8529-E6820AB0DA6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347760" y="201600"/>
            <a:ext cx="6254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0F548A-583F-48F2-9DAC-5B3A258BBE6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43031-EE0A-4430-877D-40FBE957F47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104E92-5B08-40DD-B10F-92E96B58C02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37E55E-B727-484D-A088-1B9322346DFF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47760" y="2829240"/>
            <a:ext cx="62546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1035D4-AEEA-4000-BECE-C64FACC56D4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552840" y="109548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4776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3552840" y="2829240"/>
            <a:ext cx="305208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591F7D-0BFD-4048-8C5E-C29ABA021327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2462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7760" y="109548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34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2462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4577760" y="2829240"/>
            <a:ext cx="2013840" cy="158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443904-3C84-4BEA-9A21-9F12B008B4A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llumLogo"/>
          <p:cNvPicPr/>
          <p:nvPr/>
        </p:nvPicPr>
        <p:blipFill>
          <a:blip r:embed="rId2"/>
          <a:stretch/>
        </p:blipFill>
        <p:spPr>
          <a:xfrm>
            <a:off x="115920" y="4083120"/>
            <a:ext cx="1665360" cy="890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glassesguy"/>
          <p:cNvPicPr/>
          <p:nvPr/>
        </p:nvPicPr>
        <p:blipFill>
          <a:blip r:embed="rId3"/>
          <a:stretch/>
        </p:blipFill>
        <p:spPr>
          <a:xfrm>
            <a:off x="4278240" y="3946680"/>
            <a:ext cx="2671920" cy="1082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604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47760" y="1117440"/>
            <a:ext cx="6254640" cy="234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5038200" y="4568760"/>
            <a:ext cx="16225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C465-2218-4FD0-B68E-C9ADE3DF424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3855960"/>
            <a:ext cx="6950160" cy="16668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EllumLogo"/>
          <p:cNvPicPr/>
          <p:nvPr/>
        </p:nvPicPr>
        <p:blipFill>
          <a:blip r:embed="rId2"/>
          <a:stretch/>
        </p:blipFill>
        <p:spPr>
          <a:xfrm>
            <a:off x="115920" y="55440"/>
            <a:ext cx="1665360" cy="890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kidonlaptop"/>
          <p:cNvPicPr/>
          <p:nvPr/>
        </p:nvPicPr>
        <p:blipFill>
          <a:blip r:embed="rId3"/>
          <a:stretch/>
        </p:blipFill>
        <p:spPr>
          <a:xfrm>
            <a:off x="3822840" y="0"/>
            <a:ext cx="3127320" cy="9921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7760" y="115092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347760" y="2066400"/>
            <a:ext cx="6254640" cy="19004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81000"/>
          </a:bodyPr>
          <a:p>
            <a:pPr marL="208080" indent="-20808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449640" indent="-17172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693000" indent="-13860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970560" indent="-13860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247040" indent="-13860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247040" indent="-1386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247040" indent="-13860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8A25-8AD8-4F96-BD2D-1073A9DA9F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0" y="949320"/>
            <a:ext cx="6950160" cy="16812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EllumLogo"/>
          <p:cNvPicPr/>
          <p:nvPr/>
        </p:nvPicPr>
        <p:blipFill>
          <a:blip r:embed="rId2"/>
          <a:stretch/>
        </p:blipFill>
        <p:spPr>
          <a:xfrm>
            <a:off x="115920" y="4083120"/>
            <a:ext cx="1665360" cy="890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sunrays"/>
          <p:cNvPicPr/>
          <p:nvPr/>
        </p:nvPicPr>
        <p:blipFill>
          <a:blip r:embed="rId3"/>
          <a:srcRect l="0" t="0" r="31859" b="35920"/>
          <a:stretch/>
        </p:blipFill>
        <p:spPr>
          <a:xfrm>
            <a:off x="4280040" y="2403360"/>
            <a:ext cx="2670120" cy="26258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Num" idx="3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8E00-7FBF-4A6C-970F-34F87ED01D7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142720" y="347760"/>
            <a:ext cx="387972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142720" y="1263600"/>
            <a:ext cx="4459320" cy="27036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2B7E-3685-47D7-A7A0-44C83CFC69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5" descr="teacherguy"/>
          <p:cNvPicPr/>
          <p:nvPr/>
        </p:nvPicPr>
        <p:blipFill>
          <a:blip r:embed="rId2"/>
          <a:stretch/>
        </p:blipFill>
        <p:spPr>
          <a:xfrm>
            <a:off x="0" y="2465280"/>
            <a:ext cx="1852560" cy="2563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EllumLogo"/>
          <p:cNvPicPr/>
          <p:nvPr/>
        </p:nvPicPr>
        <p:blipFill>
          <a:blip r:embed="rId3"/>
          <a:stretch/>
        </p:blipFill>
        <p:spPr>
          <a:xfrm>
            <a:off x="0" y="111240"/>
            <a:ext cx="1665360" cy="89064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7"/>
          <p:cNvSpPr/>
          <p:nvPr/>
        </p:nvSpPr>
        <p:spPr>
          <a:xfrm>
            <a:off x="1738440" y="0"/>
            <a:ext cx="172800" cy="502920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unrays"/>
          <p:cNvPicPr/>
          <p:nvPr/>
        </p:nvPicPr>
        <p:blipFill>
          <a:blip r:embed="rId2"/>
          <a:srcRect l="0" t="31859" r="35920" b="0"/>
          <a:stretch/>
        </p:blipFill>
        <p:spPr>
          <a:xfrm>
            <a:off x="4633920" y="0"/>
            <a:ext cx="2316240" cy="2062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3" descr="EllumLogo"/>
          <p:cNvPicPr/>
          <p:nvPr/>
        </p:nvPicPr>
        <p:blipFill>
          <a:blip r:embed="rId3"/>
          <a:stretch/>
        </p:blipFill>
        <p:spPr>
          <a:xfrm>
            <a:off x="57240" y="55440"/>
            <a:ext cx="1665360" cy="890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7760" y="90648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347760" y="1877760"/>
            <a:ext cx="6254640" cy="25923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5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DEA5-6109-4249-9DFB-A2B2AA04375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EllumLogo"/>
          <p:cNvPicPr/>
          <p:nvPr/>
        </p:nvPicPr>
        <p:blipFill>
          <a:blip r:embed="rId2"/>
          <a:stretch/>
        </p:blipFill>
        <p:spPr>
          <a:xfrm>
            <a:off x="57240" y="55440"/>
            <a:ext cx="1738080" cy="93024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0" y="949320"/>
            <a:ext cx="6950160" cy="40798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89080" y="1173240"/>
            <a:ext cx="625608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289080" y="2145960"/>
            <a:ext cx="6256080" cy="2066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88000"/>
          </a:bodyPr>
          <a:p>
            <a:pPr marL="226080" indent="-22608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1" marL="488520" indent="-18684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2" marL="75276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3" marL="105444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4" marL="135468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5" marL="1354680" indent="-1504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  <a:p>
            <a:pPr lvl="6" marL="1354680" indent="-1504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sldNum" idx="6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D7984-21FE-471E-8A1F-E2A473C8D35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47760" y="117324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47760" y="2145960"/>
            <a:ext cx="6254640" cy="2066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88000"/>
          </a:bodyPr>
          <a:p>
            <a:pPr marL="226080" indent="-22608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488520" indent="-18684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75276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05444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354680" indent="-150480">
              <a:spcBef>
                <a:spcPts val="451"/>
              </a:spcBef>
              <a:buClr>
                <a:srgbClr val="99ccff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354680" indent="-1504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354680" indent="-1504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7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8D92-FCC7-4856-A820-0C31ACBCFCE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1006560"/>
            <a:ext cx="6950160" cy="16668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EllumLogo"/>
          <p:cNvPicPr/>
          <p:nvPr/>
        </p:nvPicPr>
        <p:blipFill>
          <a:blip r:embed="rId2"/>
          <a:stretch/>
        </p:blipFill>
        <p:spPr>
          <a:xfrm>
            <a:off x="14400" y="58680"/>
            <a:ext cx="166500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31480" y="223560"/>
            <a:ext cx="1447560" cy="2066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ldNum" idx="8"/>
          </p:nvPr>
        </p:nvSpPr>
        <p:spPr>
          <a:xfrm>
            <a:off x="4981680" y="4579920"/>
            <a:ext cx="16207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F36AB-72EE-4BC9-A61A-A723CD7682D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2" name="Picture 4" descr="logowrays"/>
          <p:cNvPicPr/>
          <p:nvPr/>
        </p:nvPicPr>
        <p:blipFill>
          <a:blip r:embed="rId2"/>
          <a:srcRect l="6052" t="0" r="0" b="0"/>
          <a:stretch/>
        </p:blipFill>
        <p:spPr>
          <a:xfrm>
            <a:off x="-4680" y="2570040"/>
            <a:ext cx="1800000" cy="2459160"/>
          </a:xfrm>
          <a:prstGeom prst="rect">
            <a:avLst/>
          </a:prstGeom>
          <a:ln w="0">
            <a:noFill/>
          </a:ln>
        </p:spPr>
      </p:pic>
      <p:sp>
        <p:nvSpPr>
          <p:cNvPr id="293" name="Rectangle 5"/>
          <p:cNvSpPr/>
          <p:nvPr/>
        </p:nvSpPr>
        <p:spPr>
          <a:xfrm>
            <a:off x="1738440" y="0"/>
            <a:ext cx="172800" cy="502920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body"/>
          </p:nvPr>
        </p:nvSpPr>
        <p:spPr>
          <a:xfrm>
            <a:off x="2199960" y="223920"/>
            <a:ext cx="4344840" cy="16207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 fontScale="68000"/>
          </a:bodyPr>
          <a:p>
            <a:pPr marL="174600" indent="-174600">
              <a:spcBef>
                <a:spcPts val="451"/>
              </a:spcBef>
              <a:buClr>
                <a:srgbClr val="bbe0e3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377640" indent="-144360">
              <a:spcBef>
                <a:spcPts val="451"/>
              </a:spcBef>
              <a:buClr>
                <a:srgbClr val="bbe0e3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581760" indent="-116280">
              <a:spcBef>
                <a:spcPts val="451"/>
              </a:spcBef>
              <a:buClr>
                <a:srgbClr val="bbe0e3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814680" indent="-116280">
              <a:spcBef>
                <a:spcPts val="451"/>
              </a:spcBef>
              <a:buClr>
                <a:srgbClr val="bbe0e3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046880" indent="-116280">
              <a:spcBef>
                <a:spcPts val="451"/>
              </a:spcBef>
              <a:buClr>
                <a:srgbClr val="bbe0e3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046880" indent="-1162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046880" indent="-116280">
              <a:spcBef>
                <a:spcPts val="451"/>
              </a:spcBef>
              <a:buClr>
                <a:srgbClr val="000000"/>
              </a:buClr>
              <a:buFont typeface="Arial Narrow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Picture 5" descr="EllumLogo"/>
          <p:cNvPicPr/>
          <p:nvPr/>
        </p:nvPicPr>
        <p:blipFill>
          <a:blip r:embed="rId2"/>
          <a:stretch/>
        </p:blipFill>
        <p:spPr>
          <a:xfrm>
            <a:off x="0" y="349200"/>
            <a:ext cx="4257720" cy="22766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kidstitle"/>
          <p:cNvPicPr/>
          <p:nvPr/>
        </p:nvPicPr>
        <p:blipFill>
          <a:blip r:embed="rId3"/>
          <a:stretch/>
        </p:blipFill>
        <p:spPr>
          <a:xfrm>
            <a:off x="1187280" y="3116160"/>
            <a:ext cx="5762880" cy="192096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8"/>
          <p:cNvSpPr/>
          <p:nvPr/>
        </p:nvSpPr>
        <p:spPr>
          <a:xfrm>
            <a:off x="0" y="3017880"/>
            <a:ext cx="6950160" cy="166680"/>
          </a:xfrm>
          <a:prstGeom prst="rect">
            <a:avLst/>
          </a:prstGeom>
          <a:solidFill>
            <a:srgbClr val="223e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400" rIns="68400" tIns="34200" bIns="34200" anchor="ctr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604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347760" y="1117440"/>
            <a:ext cx="6254640" cy="23464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2" marL="85572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hird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3" marL="1198440" indent="-171360">
              <a:spcBef>
                <a:spcPts val="451"/>
              </a:spcBef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our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4" marL="1539720" indent="-171360"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Fif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5" marL="153972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ix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6" marL="1539720" indent="-17136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eventh Outline Level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9"/>
          </p:nvPr>
        </p:nvSpPr>
        <p:spPr>
          <a:xfrm>
            <a:off x="-360" y="4359240"/>
            <a:ext cx="16225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10"/>
          </p:nvPr>
        </p:nvSpPr>
        <p:spPr>
          <a:xfrm>
            <a:off x="-360" y="4784760"/>
            <a:ext cx="1622520" cy="34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6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Arial"/>
              </a:rPr>
              <a:t>© Copyright 2008 Elluminate, Inc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0" y="4784760"/>
            <a:ext cx="16225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ctr"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© Copyright 2009 Elluminate, Inc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493640" y="1980720"/>
            <a:ext cx="4724280" cy="8096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Elluminate </a:t>
            </a:r>
            <a:r>
              <a:rPr b="0" i="1" lang="en-US" sz="2600" spc="-1" strike="noStrike">
                <a:solidFill>
                  <a:srgbClr val="003399"/>
                </a:solidFill>
                <a:latin typeface="Arial Black"/>
              </a:rPr>
              <a:t>Live!  </a:t>
            </a: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v9.5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1645920" y="2619360"/>
            <a:ext cx="4694040" cy="5047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200" spc="-1" strike="noStrike">
                <a:solidFill>
                  <a:srgbClr val="003399"/>
                </a:solidFill>
                <a:latin typeface="Arial Narrow"/>
              </a:rPr>
              <a:t>Participant Orientation</a:t>
            </a:r>
            <a:endParaRPr b="0" lang="en-US" sz="22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9"/>
          <p:cNvSpPr/>
          <p:nvPr/>
        </p:nvSpPr>
        <p:spPr>
          <a:xfrm>
            <a:off x="2792520" y="3181320"/>
            <a:ext cx="1893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teboard Too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10"/>
          <p:cNvSpPr/>
          <p:nvPr/>
        </p:nvSpPr>
        <p:spPr>
          <a:xfrm flipH="1" flipV="1">
            <a:off x="3141360" y="2743200"/>
            <a:ext cx="228600" cy="457200"/>
          </a:xfrm>
          <a:prstGeom prst="line">
            <a:avLst/>
          </a:prstGeom>
          <a:ln w="28440">
            <a:solidFill>
              <a:srgbClr val="00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21"/>
          <p:cNvSpPr/>
          <p:nvPr/>
        </p:nvSpPr>
        <p:spPr>
          <a:xfrm>
            <a:off x="1722600" y="0"/>
            <a:ext cx="480852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The Participant Interf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6" descr="participantsinterface"/>
          <p:cNvPicPr/>
          <p:nvPr/>
        </p:nvPicPr>
        <p:blipFill>
          <a:blip r:embed="rId1"/>
          <a:stretch/>
        </p:blipFill>
        <p:spPr>
          <a:xfrm>
            <a:off x="1038240" y="914400"/>
            <a:ext cx="5713560" cy="3695760"/>
          </a:xfrm>
          <a:prstGeom prst="rect">
            <a:avLst/>
          </a:prstGeom>
          <a:ln w="0">
            <a:noFill/>
          </a:ln>
        </p:spPr>
      </p:pic>
      <p:pic>
        <p:nvPicPr>
          <p:cNvPr id="388" name="Rectangular Callout 5" descr=""/>
          <p:cNvPicPr/>
          <p:nvPr/>
        </p:nvPicPr>
        <p:blipFill>
          <a:blip r:embed="rId2"/>
          <a:stretch/>
        </p:blipFill>
        <p:spPr>
          <a:xfrm>
            <a:off x="3676680" y="743040"/>
            <a:ext cx="1120680" cy="811080"/>
          </a:xfrm>
          <a:prstGeom prst="rect">
            <a:avLst/>
          </a:prstGeom>
          <a:ln w="0">
            <a:noFill/>
          </a:ln>
        </p:spPr>
      </p:pic>
      <p:pic>
        <p:nvPicPr>
          <p:cNvPr id="389" name="Rectangular Callout 6" descr=""/>
          <p:cNvPicPr/>
          <p:nvPr/>
        </p:nvPicPr>
        <p:blipFill>
          <a:blip r:embed="rId3"/>
          <a:stretch/>
        </p:blipFill>
        <p:spPr>
          <a:xfrm>
            <a:off x="19080" y="2798640"/>
            <a:ext cx="1103400" cy="577800"/>
          </a:xfrm>
          <a:prstGeom prst="rect">
            <a:avLst/>
          </a:prstGeom>
          <a:ln w="0">
            <a:noFill/>
          </a:ln>
        </p:spPr>
      </p:pic>
      <p:pic>
        <p:nvPicPr>
          <p:cNvPr id="390" name="Rectangular Callout 7" descr=""/>
          <p:cNvPicPr/>
          <p:nvPr/>
        </p:nvPicPr>
        <p:blipFill>
          <a:blip r:embed="rId4"/>
          <a:stretch/>
        </p:blipFill>
        <p:spPr>
          <a:xfrm>
            <a:off x="19080" y="3943440"/>
            <a:ext cx="1103400" cy="579240"/>
          </a:xfrm>
          <a:prstGeom prst="rect">
            <a:avLst/>
          </a:prstGeom>
          <a:ln w="0">
            <a:noFill/>
          </a:ln>
        </p:spPr>
      </p:pic>
      <p:pic>
        <p:nvPicPr>
          <p:cNvPr id="391" name="Rectangular Callout 8" descr=""/>
          <p:cNvPicPr/>
          <p:nvPr/>
        </p:nvPicPr>
        <p:blipFill>
          <a:blip r:embed="rId5"/>
          <a:stretch/>
        </p:blipFill>
        <p:spPr>
          <a:xfrm>
            <a:off x="19080" y="1427040"/>
            <a:ext cx="1103400" cy="5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47760" y="201600"/>
            <a:ext cx="62546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Connection Speed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347760" y="1095480"/>
            <a:ext cx="6254640" cy="3319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120000"/>
              </a:lnSpc>
              <a:spcBef>
                <a:spcPts val="326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Set your Connection Speed</a:t>
            </a:r>
            <a:r>
              <a:rPr b="0" lang="en-US" sz="1300" spc="-1" strike="noStrike">
                <a:solidFill>
                  <a:srgbClr val="003399"/>
                </a:solidFill>
                <a:latin typeface="Arial Narrow"/>
              </a:rPr>
              <a:t> 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00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PC:   Tools </a:t>
            </a:r>
            <a:r>
              <a:rPr b="0" lang="en-US" sz="16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 Preferences </a:t>
            </a:r>
            <a:r>
              <a:rPr b="0" lang="en-US" sz="16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 Session Connection</a:t>
            </a:r>
            <a:endParaRPr b="0" lang="en-US" sz="16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00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Mac: Elluminate </a:t>
            </a:r>
            <a:r>
              <a:rPr b="0" i="1" lang="en-US" sz="1600" spc="-1" strike="noStrike">
                <a:solidFill>
                  <a:srgbClr val="003399"/>
                </a:solidFill>
                <a:latin typeface="Arial Narrow"/>
              </a:rPr>
              <a:t>Live! </a:t>
            </a:r>
            <a:r>
              <a:rPr b="0" lang="en-US" sz="16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 Preferences </a:t>
            </a:r>
            <a:r>
              <a:rPr b="0" lang="en-US" sz="16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3399"/>
                </a:solidFill>
                <a:latin typeface="Arial Narrow"/>
              </a:rPr>
              <a:t> Session Connection</a:t>
            </a:r>
            <a:endParaRPr b="0" lang="en-US" sz="1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94" name="Rectangle 4"/>
          <p:cNvSpPr/>
          <p:nvPr/>
        </p:nvSpPr>
        <p:spPr>
          <a:xfrm>
            <a:off x="3408480" y="2241720"/>
            <a:ext cx="6949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6"/>
          <p:cNvSpPr/>
          <p:nvPr/>
        </p:nvSpPr>
        <p:spPr>
          <a:xfrm>
            <a:off x="3193920" y="214632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7"/>
          <p:cNvSpPr/>
          <p:nvPr/>
        </p:nvSpPr>
        <p:spPr>
          <a:xfrm>
            <a:off x="3313080" y="216540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2898720" y="401328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7" descr=""/>
          <p:cNvPicPr/>
          <p:nvPr/>
        </p:nvPicPr>
        <p:blipFill>
          <a:blip r:embed="rId1"/>
          <a:stretch/>
        </p:blipFill>
        <p:spPr>
          <a:xfrm>
            <a:off x="2712960" y="2133720"/>
            <a:ext cx="363852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25160" y="255600"/>
            <a:ext cx="5916600" cy="6429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Participants Window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1000" y="1117080"/>
            <a:ext cx="6092640" cy="1955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Raise/Lower Hand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Emoticons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Polling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Step Away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01" name="Rectangle 4"/>
          <p:cNvSpPr/>
          <p:nvPr/>
        </p:nvSpPr>
        <p:spPr>
          <a:xfrm>
            <a:off x="3408480" y="2443320"/>
            <a:ext cx="6949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5"/>
          <p:cNvSpPr/>
          <p:nvPr/>
        </p:nvSpPr>
        <p:spPr>
          <a:xfrm>
            <a:off x="3394080" y="244332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6"/>
          <p:cNvSpPr/>
          <p:nvPr/>
        </p:nvSpPr>
        <p:spPr>
          <a:xfrm>
            <a:off x="3193920" y="234792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313080" y="236700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13"/>
          <p:cNvSpPr/>
          <p:nvPr/>
        </p:nvSpPr>
        <p:spPr>
          <a:xfrm>
            <a:off x="2898720" y="421488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5"/>
          <p:cNvSpPr/>
          <p:nvPr/>
        </p:nvSpPr>
        <p:spPr>
          <a:xfrm>
            <a:off x="3524400" y="3835440"/>
            <a:ext cx="6949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Picture 25" descr="PPTA"/>
          <p:cNvPicPr/>
          <p:nvPr/>
        </p:nvPicPr>
        <p:blipFill>
          <a:blip r:embed="rId1"/>
          <a:stretch/>
        </p:blipFill>
        <p:spPr>
          <a:xfrm>
            <a:off x="2789280" y="1355760"/>
            <a:ext cx="3120840" cy="199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768320" y="7632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Audio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7360" y="1294920"/>
            <a:ext cx="6175440" cy="33195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374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Permission to use Microphone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275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spcBef>
                <a:spcPts val="374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Audio Setup Utility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buClr>
                <a:srgbClr val="99ccff"/>
              </a:buClr>
              <a:buFont typeface="Arial Narrow"/>
              <a:buChar char="–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Tools </a:t>
            </a:r>
            <a:r>
              <a:rPr b="0" lang="en-US" sz="1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 Audio </a:t>
            </a:r>
            <a:r>
              <a:rPr b="0" lang="en-US" sz="1800" spc="-1" strike="noStrike">
                <a:solidFill>
                  <a:srgbClr val="003399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 Audio Setup Wizard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37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37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37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spcBef>
                <a:spcPts val="374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Optimal Microphone Setting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410" name="Picture 32" descr="audiowindow"/>
          <p:cNvPicPr/>
          <p:nvPr/>
        </p:nvPicPr>
        <p:blipFill>
          <a:blip r:embed="rId1"/>
          <a:stretch/>
        </p:blipFill>
        <p:spPr>
          <a:xfrm>
            <a:off x="808200" y="3657600"/>
            <a:ext cx="2280960" cy="952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3" descr=""/>
          <p:cNvPicPr/>
          <p:nvPr/>
        </p:nvPicPr>
        <p:blipFill>
          <a:blip r:embed="rId2"/>
          <a:stretch/>
        </p:blipFill>
        <p:spPr>
          <a:xfrm>
            <a:off x="2865600" y="1306440"/>
            <a:ext cx="228600" cy="21744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3551040" y="3255480"/>
            <a:ext cx="3051000" cy="957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451"/>
              </a:spcBef>
              <a:buClr>
                <a:srgbClr val="99ccff"/>
              </a:buClr>
              <a:buFont typeface="Arial Narrow"/>
              <a:buChar char="•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pic>
        <p:nvPicPr>
          <p:cNvPr id="413" name="Picture 34" descr=""/>
          <p:cNvPicPr/>
          <p:nvPr/>
        </p:nvPicPr>
        <p:blipFill>
          <a:blip r:embed="rId3"/>
          <a:stretch/>
        </p:blipFill>
        <p:spPr>
          <a:xfrm>
            <a:off x="3322800" y="2352600"/>
            <a:ext cx="240012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28240" y="295200"/>
            <a:ext cx="4737240" cy="542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Chat Window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91960" y="1142640"/>
            <a:ext cx="5037120" cy="3652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spcBef>
                <a:spcPts val="374"/>
              </a:spcBef>
              <a:spcAft>
                <a:spcPts val="374"/>
              </a:spcAft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Permission to use Chat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spcBef>
                <a:spcPts val="374"/>
              </a:spcBef>
              <a:spcAft>
                <a:spcPts val="374"/>
              </a:spcAft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Send a Text Message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spcAft>
                <a:spcPts val="451"/>
              </a:spcAft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Public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spcBef>
                <a:spcPts val="451"/>
              </a:spcBef>
              <a:spcAft>
                <a:spcPts val="451"/>
              </a:spcAft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Private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16" name="Rectangle 4"/>
          <p:cNvSpPr/>
          <p:nvPr/>
        </p:nvSpPr>
        <p:spPr>
          <a:xfrm>
            <a:off x="2322360" y="84780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2452680" y="373536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13" descr="chatwindow"/>
          <p:cNvPicPr/>
          <p:nvPr/>
        </p:nvPicPr>
        <p:blipFill>
          <a:blip r:embed="rId1"/>
          <a:stretch/>
        </p:blipFill>
        <p:spPr>
          <a:xfrm>
            <a:off x="2562120" y="1676520"/>
            <a:ext cx="3367080" cy="236520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4" descr=""/>
          <p:cNvPicPr/>
          <p:nvPr/>
        </p:nvPicPr>
        <p:blipFill>
          <a:blip r:embed="rId2"/>
          <a:stretch/>
        </p:blipFill>
        <p:spPr>
          <a:xfrm>
            <a:off x="2332080" y="1143000"/>
            <a:ext cx="3556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722240" y="187200"/>
            <a:ext cx="3360600" cy="727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Whiteboard Tools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91600" y="1141560"/>
            <a:ext cx="4496040" cy="39621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15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Permission to use the Whiteboard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lnSpc>
                <a:spcPct val="150000"/>
              </a:lnSpc>
              <a:spcBef>
                <a:spcPts val="275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1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5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Tools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22" name="Rectangle 4"/>
          <p:cNvSpPr/>
          <p:nvPr/>
        </p:nvSpPr>
        <p:spPr>
          <a:xfrm>
            <a:off x="3379680" y="242424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Group 51"/>
          <p:cNvGrpSpPr/>
          <p:nvPr/>
        </p:nvGrpSpPr>
        <p:grpSpPr>
          <a:xfrm>
            <a:off x="632160" y="1828800"/>
            <a:ext cx="5074560" cy="2141640"/>
            <a:chOff x="632160" y="1828800"/>
            <a:chExt cx="5074560" cy="2141640"/>
          </a:xfrm>
        </p:grpSpPr>
        <p:pic>
          <p:nvPicPr>
            <p:cNvPr id="424" name="Picture 16" descr=""/>
            <p:cNvPicPr/>
            <p:nvPr/>
          </p:nvPicPr>
          <p:blipFill>
            <a:blip r:embed="rId1"/>
            <a:srcRect l="30655" t="18738" r="64524" b="58650"/>
            <a:stretch/>
          </p:blipFill>
          <p:spPr>
            <a:xfrm>
              <a:off x="3065400" y="1828800"/>
              <a:ext cx="608040" cy="214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5" name="Line 18"/>
            <p:cNvSpPr/>
            <p:nvPr/>
          </p:nvSpPr>
          <p:spPr>
            <a:xfrm>
              <a:off x="2455920" y="205596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>
              <a:off x="2455920" y="233064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>
              <a:off x="2457360" y="2605320"/>
              <a:ext cx="6098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21"/>
            <p:cNvSpPr/>
            <p:nvPr/>
          </p:nvSpPr>
          <p:spPr>
            <a:xfrm>
              <a:off x="2455920" y="283212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2"/>
            <p:cNvSpPr/>
            <p:nvPr/>
          </p:nvSpPr>
          <p:spPr>
            <a:xfrm>
              <a:off x="2455920" y="307044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3"/>
            <p:cNvSpPr/>
            <p:nvPr/>
          </p:nvSpPr>
          <p:spPr>
            <a:xfrm>
              <a:off x="2455920" y="330840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4"/>
            <p:cNvSpPr/>
            <p:nvPr/>
          </p:nvSpPr>
          <p:spPr>
            <a:xfrm>
              <a:off x="2455920" y="356400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>
              <a:off x="2455920" y="3792600"/>
              <a:ext cx="60948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27"/>
            <p:cNvSpPr/>
            <p:nvPr/>
          </p:nvSpPr>
          <p:spPr>
            <a:xfrm flipH="1">
              <a:off x="3674880" y="205740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8"/>
            <p:cNvSpPr/>
            <p:nvPr/>
          </p:nvSpPr>
          <p:spPr>
            <a:xfrm flipH="1">
              <a:off x="3674880" y="233064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29"/>
            <p:cNvSpPr/>
            <p:nvPr/>
          </p:nvSpPr>
          <p:spPr>
            <a:xfrm flipH="1">
              <a:off x="3674880" y="260532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30"/>
            <p:cNvSpPr/>
            <p:nvPr/>
          </p:nvSpPr>
          <p:spPr>
            <a:xfrm flipH="1">
              <a:off x="3674880" y="283212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31"/>
            <p:cNvSpPr/>
            <p:nvPr/>
          </p:nvSpPr>
          <p:spPr>
            <a:xfrm flipH="1">
              <a:off x="3674880" y="307044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32"/>
            <p:cNvSpPr/>
            <p:nvPr/>
          </p:nvSpPr>
          <p:spPr>
            <a:xfrm flipH="1">
              <a:off x="3674880" y="330516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33"/>
            <p:cNvSpPr/>
            <p:nvPr/>
          </p:nvSpPr>
          <p:spPr>
            <a:xfrm flipH="1">
              <a:off x="3674880" y="3564000"/>
              <a:ext cx="53316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-34200" bIns="-34200" anchor="t">
              <a:noAutofit/>
            </a:bodyPr>
            <a:p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Text Box 36"/>
            <p:cNvSpPr/>
            <p:nvPr/>
          </p:nvSpPr>
          <p:spPr>
            <a:xfrm>
              <a:off x="3631680" y="3210120"/>
              <a:ext cx="18824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aser Poi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7"/>
            <p:cNvSpPr/>
            <p:nvPr/>
          </p:nvSpPr>
          <p:spPr>
            <a:xfrm>
              <a:off x="3634200" y="3457800"/>
              <a:ext cx="14554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lip A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38"/>
            <p:cNvSpPr/>
            <p:nvPr/>
          </p:nvSpPr>
          <p:spPr>
            <a:xfrm>
              <a:off x="3629520" y="2952720"/>
              <a:ext cx="20772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lled Rectang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39"/>
            <p:cNvSpPr/>
            <p:nvPr/>
          </p:nvSpPr>
          <p:spPr>
            <a:xfrm>
              <a:off x="3630240" y="2724120"/>
              <a:ext cx="18410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Filled Ellip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Text Box 40"/>
            <p:cNvSpPr/>
            <p:nvPr/>
          </p:nvSpPr>
          <p:spPr>
            <a:xfrm>
              <a:off x="3627720" y="1952640"/>
              <a:ext cx="13824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ras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 Box 41"/>
            <p:cNvSpPr/>
            <p:nvPr/>
          </p:nvSpPr>
          <p:spPr>
            <a:xfrm>
              <a:off x="3631320" y="2210040"/>
              <a:ext cx="171000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Highligh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42"/>
            <p:cNvSpPr/>
            <p:nvPr/>
          </p:nvSpPr>
          <p:spPr>
            <a:xfrm>
              <a:off x="3630240" y="2486160"/>
              <a:ext cx="17024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xt Edito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43"/>
            <p:cNvSpPr/>
            <p:nvPr/>
          </p:nvSpPr>
          <p:spPr>
            <a:xfrm>
              <a:off x="1108440" y="1933560"/>
              <a:ext cx="1585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 Box 44"/>
            <p:cNvSpPr/>
            <p:nvPr/>
          </p:nvSpPr>
          <p:spPr>
            <a:xfrm>
              <a:off x="1492920" y="2210040"/>
              <a:ext cx="118584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45"/>
            <p:cNvSpPr/>
            <p:nvPr/>
          </p:nvSpPr>
          <p:spPr>
            <a:xfrm>
              <a:off x="1472400" y="2495520"/>
              <a:ext cx="1219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46"/>
            <p:cNvSpPr/>
            <p:nvPr/>
          </p:nvSpPr>
          <p:spPr>
            <a:xfrm>
              <a:off x="1308600" y="2724120"/>
              <a:ext cx="1399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Ellip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47"/>
            <p:cNvSpPr/>
            <p:nvPr/>
          </p:nvSpPr>
          <p:spPr>
            <a:xfrm>
              <a:off x="1069920" y="2962440"/>
              <a:ext cx="16354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tang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 Box 48"/>
            <p:cNvSpPr/>
            <p:nvPr/>
          </p:nvSpPr>
          <p:spPr>
            <a:xfrm>
              <a:off x="1477800" y="3210120"/>
              <a:ext cx="12193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Text Box 49"/>
            <p:cNvSpPr/>
            <p:nvPr/>
          </p:nvSpPr>
          <p:spPr>
            <a:xfrm>
              <a:off x="632160" y="3451320"/>
              <a:ext cx="20851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port an Im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Text Box 50"/>
            <p:cNvSpPr/>
            <p:nvPr/>
          </p:nvSpPr>
          <p:spPr>
            <a:xfrm>
              <a:off x="678240" y="3676680"/>
              <a:ext cx="203472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400" rIns="68400" tIns="34200" bIns="34200" anchor="t">
              <a:spAutoFit/>
            </a:bodyPr>
            <a:p>
              <a:pPr marL="555480" indent="-212400">
                <a:lnSpc>
                  <a:spcPct val="80000"/>
                </a:lnSpc>
                <a:spcBef>
                  <a:spcPts val="300"/>
                </a:spcBef>
                <a:tabLst>
                  <a:tab algn="l" pos="0"/>
                  <a:tab algn="l" pos="684360"/>
                  <a:tab algn="l" pos="1368360"/>
                  <a:tab algn="l" pos="2052720"/>
                  <a:tab algn="l" pos="2736720"/>
                  <a:tab algn="l" pos="3421080"/>
                  <a:tab algn="l" pos="4105440"/>
                  <a:tab algn="l" pos="4789440"/>
                  <a:tab algn="l" pos="5473800"/>
                  <a:tab algn="l" pos="6157800"/>
                  <a:tab algn="l" pos="6842160"/>
                  <a:tab algn="l" pos="7526160"/>
                  <a:tab algn="l" pos="8210520"/>
                  <a:tab algn="l" pos="8894880"/>
                  <a:tab algn="l" pos="9578880"/>
                  <a:tab algn="l" pos="10263240"/>
                  <a:tab algn="l" pos="1094724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creen Cap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5" name="Picture 53" descr=""/>
          <p:cNvPicPr/>
          <p:nvPr/>
        </p:nvPicPr>
        <p:blipFill>
          <a:blip r:embed="rId2"/>
          <a:stretch/>
        </p:blipFill>
        <p:spPr>
          <a:xfrm>
            <a:off x="3017880" y="1262160"/>
            <a:ext cx="228600" cy="1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026800" y="230040"/>
            <a:ext cx="4807080" cy="7272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600" spc="-1" strike="noStrike">
                <a:solidFill>
                  <a:srgbClr val="003399"/>
                </a:solidFill>
                <a:latin typeface="Arial Black"/>
              </a:rPr>
              <a:t>Polling</a:t>
            </a:r>
            <a:endParaRPr b="0" lang="en-US" sz="26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027160" y="1141200"/>
            <a:ext cx="4724640" cy="38098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Types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Yes/No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Multiple Choice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120000"/>
              </a:lnSpc>
              <a:spcBef>
                <a:spcPts val="451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 Narrow"/>
              </a:rPr>
              <a:t>Slowdown/Speedup Class Pace</a:t>
            </a:r>
            <a:endParaRPr b="0" lang="en-US" sz="18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lnSpc>
                <a:spcPct val="120000"/>
              </a:lnSpc>
              <a:spcBef>
                <a:spcPts val="374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120000"/>
              </a:lnSpc>
              <a:spcBef>
                <a:spcPts val="374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500" spc="-1" strike="noStrike">
                <a:solidFill>
                  <a:srgbClr val="003399"/>
                </a:solidFill>
                <a:latin typeface="Arial Narrow"/>
              </a:rPr>
              <a:t>Responses will appear in the Participants window if the moderator has selected to show them</a:t>
            </a:r>
            <a:endParaRPr b="0" lang="en-US" sz="15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58" name="Rectangle 14"/>
          <p:cNvSpPr/>
          <p:nvPr/>
        </p:nvSpPr>
        <p:spPr>
          <a:xfrm>
            <a:off x="2452680" y="383544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16"/>
          <p:cNvSpPr/>
          <p:nvPr/>
        </p:nvSpPr>
        <p:spPr>
          <a:xfrm>
            <a:off x="2322360" y="528480"/>
            <a:ext cx="69501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5" descr=""/>
          <p:cNvPicPr/>
          <p:nvPr/>
        </p:nvPicPr>
        <p:blipFill>
          <a:blip r:embed="rId1"/>
          <a:stretch/>
        </p:blipFill>
        <p:spPr>
          <a:xfrm>
            <a:off x="3398760" y="1447920"/>
            <a:ext cx="276480" cy="3808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26" descr=""/>
          <p:cNvPicPr/>
          <p:nvPr/>
        </p:nvPicPr>
        <p:blipFill>
          <a:blip r:embed="rId2"/>
          <a:stretch/>
        </p:blipFill>
        <p:spPr>
          <a:xfrm>
            <a:off x="4008600" y="1828800"/>
            <a:ext cx="475920" cy="46656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27" descr=""/>
          <p:cNvPicPr/>
          <p:nvPr/>
        </p:nvPicPr>
        <p:blipFill>
          <a:blip r:embed="rId3"/>
          <a:stretch/>
        </p:blipFill>
        <p:spPr>
          <a:xfrm>
            <a:off x="5456160" y="2209680"/>
            <a:ext cx="304920" cy="4478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Participants_Window_Activity_Indicators.gif"/>
          <p:cNvPicPr/>
          <p:nvPr/>
        </p:nvPicPr>
        <p:blipFill>
          <a:blip r:embed="rId4"/>
          <a:srcRect l="31657" t="9862" r="0" b="0"/>
          <a:stretch/>
        </p:blipFill>
        <p:spPr>
          <a:xfrm>
            <a:off x="4160880" y="96840"/>
            <a:ext cx="1600200" cy="1351080"/>
          </a:xfrm>
          <a:prstGeom prst="rect">
            <a:avLst/>
          </a:prstGeom>
          <a:ln w="0">
            <a:noFill/>
          </a:ln>
        </p:spPr>
      </p:pic>
      <p:sp>
        <p:nvSpPr>
          <p:cNvPr id="464" name="Rectangle 12"/>
          <p:cNvSpPr/>
          <p:nvPr/>
        </p:nvSpPr>
        <p:spPr>
          <a:xfrm>
            <a:off x="5227560" y="1066680"/>
            <a:ext cx="304920" cy="381240"/>
          </a:xfrm>
          <a:prstGeom prst="rect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51000" y="75960"/>
            <a:ext cx="6254640" cy="5936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  <a:tabLst>
                <a:tab algn="l" pos="0"/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 Black"/>
              </a:rPr>
              <a:t>Resource Materials</a:t>
            </a:r>
            <a:endParaRPr b="0" lang="en-US" sz="2400" spc="-1" strike="noStrike">
              <a:solidFill>
                <a:srgbClr val="003399"/>
              </a:solidFill>
              <a:latin typeface="Arial Black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54040" y="685440"/>
            <a:ext cx="6184800" cy="39020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rmAutofit/>
          </a:bodyPr>
          <a:p>
            <a:pPr marL="257040" indent="-257040">
              <a:lnSpc>
                <a:spcPct val="90000"/>
              </a:lnSpc>
              <a:spcBef>
                <a:spcPts val="3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Visit </a:t>
            </a:r>
            <a:r>
              <a:rPr b="1" lang="en-US" sz="1400" spc="-1" strike="noStrike" u="sng">
                <a:solidFill>
                  <a:srgbClr val="233e99"/>
                </a:solidFill>
                <a:uFillTx/>
                <a:latin typeface="Arial Narrow"/>
              </a:rPr>
              <a:t>www.elluminate.com/training</a:t>
            </a: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 for: </a:t>
            </a: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90000"/>
              </a:lnSpc>
              <a:spcBef>
                <a:spcPts val="326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User Guides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90000"/>
              </a:lnSpc>
              <a:spcBef>
                <a:spcPts val="326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Quick Reference Guides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90000"/>
              </a:lnSpc>
              <a:spcBef>
                <a:spcPts val="326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Recorded Training Sessions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-212400">
              <a:lnSpc>
                <a:spcPct val="90000"/>
              </a:lnSpc>
              <a:spcBef>
                <a:spcPts val="326"/>
              </a:spcBef>
              <a:buClr>
                <a:srgbClr val="99ccff"/>
              </a:buClr>
              <a:buFont typeface="Arial"/>
              <a:buChar char="»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 Narrow"/>
              </a:rPr>
              <a:t>Register for Live Training Sessions</a:t>
            </a: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lvl="1" marL="555480" indent="0">
              <a:lnSpc>
                <a:spcPct val="90000"/>
              </a:lnSpc>
              <a:spcBef>
                <a:spcPts val="326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3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spcBef>
                <a:spcPts val="3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Elluminate Technical Support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 Narrow"/>
              </a:rPr>
              <a:t>http://www.elluminate.com/support/</a:t>
            </a:r>
            <a:r>
              <a:rPr b="0" i="1" lang="en-US" sz="1400" spc="-1" strike="noStrike" u="sng">
                <a:solidFill>
                  <a:srgbClr val="333399"/>
                </a:solidFill>
                <a:uFillTx/>
                <a:latin typeface="Arial Narrow"/>
              </a:rPr>
              <a:t> </a:t>
            </a: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90000"/>
              </a:lnSpc>
              <a:spcBef>
                <a:spcPts val="400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The Elluminate User Group available from </a:t>
            </a:r>
            <a:r>
              <a:rPr b="1" lang="en-US" sz="1600" spc="-1" strike="noStrike" u="sng">
                <a:solidFill>
                  <a:srgbClr val="233e99"/>
                </a:solidFill>
                <a:uFillTx/>
                <a:latin typeface="Arial Narrow"/>
              </a:rPr>
              <a:t>www.learncentral.com</a:t>
            </a:r>
            <a:endParaRPr b="0" lang="en-US" sz="16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  <a:p>
            <a:pPr marL="257040" indent="-257040">
              <a:lnSpc>
                <a:spcPct val="90000"/>
              </a:lnSpc>
              <a:spcBef>
                <a:spcPts val="349"/>
              </a:spcBef>
              <a:buClr>
                <a:srgbClr val="99ccff"/>
              </a:buClr>
              <a:buFont typeface="Wingdings" charset="2"/>
              <a:buChar char=""/>
              <a:tabLst>
                <a:tab algn="l" pos="684360"/>
                <a:tab algn="l" pos="1368360"/>
                <a:tab algn="l" pos="2052720"/>
                <a:tab algn="l" pos="2736720"/>
                <a:tab algn="l" pos="3421080"/>
                <a:tab algn="l" pos="4105440"/>
                <a:tab algn="l" pos="4789440"/>
                <a:tab algn="l" pos="5473800"/>
                <a:tab algn="l" pos="6157800"/>
                <a:tab algn="l" pos="6842160"/>
                <a:tab algn="l" pos="7526160"/>
                <a:tab algn="l" pos="8210520"/>
                <a:tab algn="l" pos="8894880"/>
                <a:tab algn="l" pos="9578880"/>
                <a:tab algn="l" pos="10263240"/>
                <a:tab algn="l" pos="1094724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 Narrow"/>
              </a:rPr>
              <a:t>3 for Free vRoom </a:t>
            </a:r>
            <a:r>
              <a:rPr b="1" lang="en-US" sz="1400" spc="-1" strike="noStrike" u="sng">
                <a:solidFill>
                  <a:srgbClr val="233e99"/>
                </a:solidFill>
                <a:uFillTx/>
                <a:latin typeface="Arial Narrow"/>
              </a:rPr>
              <a:t>www.elluminate.com/vroom/</a:t>
            </a:r>
            <a:endParaRPr b="0" lang="en-US" sz="1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15T17:48:14Z</dcterms:created>
  <dc:creator>Training</dc:creator>
  <dc:description/>
  <dc:language>en-US</dc:language>
  <cp:lastModifiedBy> </cp:lastModifiedBy>
  <dcterms:modified xsi:type="dcterms:W3CDTF">2009-06-25T16:25:51Z</dcterms:modified>
  <cp:revision>203</cp:revision>
  <dc:subject/>
  <dc:title>Elluminate, Inc</dc:title>
</cp:coreProperties>
</file>