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951663" cy="5029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70000" y="720360"/>
            <a:ext cx="49752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33B4C-2881-4CD1-8FA1-F31516C43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B9A1-E740-419C-AF4F-601DD852F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9752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6E12-5ACA-4EED-B71B-3CABF999A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8640-2B9A-43B3-BC3E-A492C92E094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C9DB-0FBC-4CBA-A094-1DEDA1B36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A216-44B7-4A5D-9547-0A809ADCF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64E1-C80E-47B0-8129-FCF2E1EE4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7BD8-5CE0-4759-AC41-F364B935A2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DAEA-BA94-49B8-96EA-7D7E90E11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BE4A-1E99-4055-BA5E-233850F72A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3FC6-4AD9-4D5C-8DD6-0669E6CBC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E419-291E-42FE-96A9-A07E73ABDF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36F7-D91C-4A22-9F8C-7989040C4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20B6-8858-42F3-994E-AF7CB573D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58BF-7077-46E9-B68A-CF227432B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560C-2D1D-44EA-8A60-CB10446C4F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160B-BF2C-4AB9-845D-21CD82CAE2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1B1C-3813-412D-AFE2-DA2E7E89E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3ECE-974A-4602-9BFF-1AEB40BD50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72F-BB3E-4D31-95C4-86FECEA39A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4A6-8074-4D9A-A711-9757B11352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B4E-8E01-4F0D-A9DE-1190363909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02C-055D-4CE0-ADE6-2C894840C0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C76-C60F-4117-95F6-F2799F56CC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29E4-5ACA-4C55-AD7B-8A54E1224B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0B7-EED2-4EC3-8DB6-2158E94B37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DA1-E3D3-41FC-B10D-15E5E87655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B92-DBD3-4723-A9DF-C2F9C8CFA3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8F5-44AB-4F12-883C-97FEE5D045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1A9-6AE6-429D-B902-26E9ED1BD8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768-9B60-4284-836A-C5EC990ADE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02A-F0AD-4219-ACD9-12D4EE5FFB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DC884-B858-4A74-9B1D-3C27FC989D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83C7C-A3FC-43DC-A820-4F8B7DC02C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AB28B-D9AF-46C0-864E-0CAECE360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36FA-9C27-4CE2-939B-3D7D6BE972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AD888-9DB2-47F1-82E4-011E4B6928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16756-281D-47BC-91C1-0B9C859901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C1140-6A37-4342-B7A4-B604A46C7C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D7B6-C23A-419F-9DC5-2953D82A53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4AD73-87CF-4E2E-995F-5DF4245BC7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A6713-22A0-4EBF-AD75-6527F457E8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B516-2163-4C84-9403-8EFA9E4A7D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D4FD5-FF7F-434F-8133-E6EA12307C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E714D-4A6C-49CC-B992-83BA3E27FB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5379D-CB9A-43A0-B1D8-7DCC9336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B02D-018B-4FD3-ACE7-1A01EE43F9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BF53E-3DEE-4377-9DFB-7EA020C411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30A40-BACF-4A7C-A9CC-5BB84F5A50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85957-572E-42CD-8823-A95DA7EF8DC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F542A-5FC1-499B-9C30-6B6AE26D1A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CA790-758A-4AA2-B633-DBE6F2A2BA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95AA4-CD93-4C57-860C-18D95EFAF7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0BAF5-FEFC-4292-AE86-0DB3F1958A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BE2BC-6B06-4E35-A772-AAC88F2155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A0073-B961-4E20-8979-5CCD5A31EB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E9010-0CFE-4A47-AAFA-4F04FBBF8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AC04-5339-4FE9-8536-5ADD5156D9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4CA29-3FBD-426F-A709-D1E59CA50F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78B-382A-4CE3-97CC-B052EDB8A9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2187-47D2-46D8-BACD-C76F71A9A4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658-DF35-49FC-A77A-AFC76D6E8E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677-AC75-4E1A-ADEB-87235B474F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A3A-FDE1-426A-9433-242BE66709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DDE-6B64-4CC0-A7FB-652EF9804E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FC85-451C-4237-BB71-0856CF4087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605F-7FE1-4406-836A-40F2484932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4585-A8E6-4FB1-99E9-A59F41B3D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C3E5-06A8-4294-83BB-B4D0D8AF02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F61-36A6-4473-A617-48801C5E5E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9CE9-F596-4F6A-A39E-5872FD1DD2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6E93-272D-44CD-8A9D-B5CDC2A243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87FC8-D9B7-411E-8918-5206F9BDDA6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8C470-FFC1-4CD8-950B-15A76F9274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43147-0596-4CF8-851E-640F6CE1FA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A930C-6A1D-4CAA-A069-8FDF7CA9BB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EBD52-77AF-40DB-BB7C-BF6C2DC645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D6571-36B2-460B-8B0C-E1DFCF7044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B948D-3B34-4D53-BC88-3CE31CFD9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369C-6586-454B-A00C-7E85BDD486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A8219-C310-4560-BE0A-FCB918D24E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B80F2-F759-434E-81C5-02CE8B440C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A5DD9-8DA1-47B7-9D3A-87B417C3F4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27B266-2BD9-463D-88AC-DB1CB731D8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78A2C-CD4F-4E12-A1BC-87CAA1AFB8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E57DB-EE65-4ED9-841D-4990460537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FE39F-C153-4685-A4D5-279CBD0CFF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4BB60-7869-435E-BA65-0F837C6E39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DE621-1A1B-4409-97CE-966868E8014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E7507-4383-4B35-B08B-5A7BE847E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50AB-1266-492B-9567-85DE725B09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6FF80-2400-4D0C-A53A-8893BA5E3D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195C7-26FC-4C3C-B3DA-DC5AA2FDA4D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20AA7-6456-4BD5-BA92-A368146BA7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91340-34D2-480B-8A93-A7F554ECEE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BF831-B82B-48FE-82CD-106FCA8CA4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4DF39-8DF3-48F5-8A1C-A371677F03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FB102-279A-4CF2-82B2-2A3CA1567E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lassesguy"/>
          <p:cNvPicPr/>
          <p:nvPr/>
        </p:nvPicPr>
        <p:blipFill>
          <a:blip r:embed="rId3"/>
          <a:stretch/>
        </p:blipFill>
        <p:spPr>
          <a:xfrm>
            <a:off x="4278240" y="3946680"/>
            <a:ext cx="2671920" cy="10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038200" y="4568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A5D-6957-4FAC-93C6-234A5BDC5C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559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llumLogo"/>
          <p:cNvPicPr/>
          <p:nvPr/>
        </p:nvPicPr>
        <p:blipFill>
          <a:blip r:embed="rId2"/>
          <a:stretch/>
        </p:blipFill>
        <p:spPr>
          <a:xfrm>
            <a:off x="115920" y="5544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kidonlaptop"/>
          <p:cNvPicPr/>
          <p:nvPr/>
        </p:nvPicPr>
        <p:blipFill>
          <a:blip r:embed="rId3"/>
          <a:stretch/>
        </p:blipFill>
        <p:spPr>
          <a:xfrm>
            <a:off x="3822840" y="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7760" y="11509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7760" y="2066400"/>
            <a:ext cx="6254640" cy="190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1000"/>
          </a:bodyPr>
          <a:p>
            <a:pPr marL="208080" indent="-208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49640" indent="-17172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69300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97056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24704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A6A-CA61-4CC6-B292-83CA0ECECB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949320"/>
            <a:ext cx="6950160" cy="16812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sunrays"/>
          <p:cNvPicPr/>
          <p:nvPr/>
        </p:nvPicPr>
        <p:blipFill>
          <a:blip r:embed="rId3"/>
          <a:srcRect l="0" t="0" r="31859" b="35920"/>
          <a:stretch/>
        </p:blipFill>
        <p:spPr>
          <a:xfrm>
            <a:off x="4280040" y="24033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92C9-F90C-4971-9E05-5424685B9C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720" y="347760"/>
            <a:ext cx="387972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142720" y="1263600"/>
            <a:ext cx="4459320" cy="270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2876-D223-4F64-8EB7-1D56415501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teacherguy"/>
          <p:cNvPicPr/>
          <p:nvPr/>
        </p:nvPicPr>
        <p:blipFill>
          <a:blip r:embed="rId2"/>
          <a:stretch/>
        </p:blipFill>
        <p:spPr>
          <a:xfrm>
            <a:off x="0" y="2465280"/>
            <a:ext cx="1852560" cy="256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EllumLogo"/>
          <p:cNvPicPr/>
          <p:nvPr/>
        </p:nvPicPr>
        <p:blipFill>
          <a:blip r:embed="rId3"/>
          <a:stretch/>
        </p:blipFill>
        <p:spPr>
          <a:xfrm>
            <a:off x="0" y="1112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rays"/>
          <p:cNvPicPr/>
          <p:nvPr/>
        </p:nvPicPr>
        <p:blipFill>
          <a:blip r:embed="rId2"/>
          <a:srcRect l="0" t="31859" r="35920" b="0"/>
          <a:stretch/>
        </p:blipFill>
        <p:spPr>
          <a:xfrm>
            <a:off x="4633920" y="0"/>
            <a:ext cx="231624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llumLogo"/>
          <p:cNvPicPr/>
          <p:nvPr/>
        </p:nvPicPr>
        <p:blipFill>
          <a:blip r:embed="rId3"/>
          <a:stretch/>
        </p:blipFill>
        <p:spPr>
          <a:xfrm>
            <a:off x="57240" y="554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90648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47760" y="1877760"/>
            <a:ext cx="6254640" cy="2592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DC7-2DD7-4291-B566-7ECF10FB67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llumLogo"/>
          <p:cNvPicPr/>
          <p:nvPr/>
        </p:nvPicPr>
        <p:blipFill>
          <a:blip r:embed="rId2"/>
          <a:stretch/>
        </p:blipFill>
        <p:spPr>
          <a:xfrm>
            <a:off x="57240" y="55440"/>
            <a:ext cx="1738080" cy="930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949320"/>
            <a:ext cx="6950160" cy="407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080" y="1173240"/>
            <a:ext cx="62560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89080" y="2145960"/>
            <a:ext cx="625608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EA8E-C67A-4EE6-AD8A-59AD65C13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7760" y="117324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47760" y="2145960"/>
            <a:ext cx="625464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7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9C2-6A91-41D9-9D74-7642EF8246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10065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EllumLogo"/>
          <p:cNvPicPr/>
          <p:nvPr/>
        </p:nvPicPr>
        <p:blipFill>
          <a:blip r:embed="rId2"/>
          <a:stretch/>
        </p:blipFill>
        <p:spPr>
          <a:xfrm>
            <a:off x="14400" y="58680"/>
            <a:ext cx="16650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1480" y="223560"/>
            <a:ext cx="144756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8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38B-39BC-4843-8C67-0EC54E8114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" descr="logowrays"/>
          <p:cNvPicPr/>
          <p:nvPr/>
        </p:nvPicPr>
        <p:blipFill>
          <a:blip r:embed="rId2"/>
          <a:srcRect l="6052" t="0" r="0" b="0"/>
          <a:stretch/>
        </p:blipFill>
        <p:spPr>
          <a:xfrm>
            <a:off x="-4680" y="2570040"/>
            <a:ext cx="1800000" cy="2459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2199960" y="223920"/>
            <a:ext cx="4344840" cy="1620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68000"/>
          </a:bodyPr>
          <a:p>
            <a:pPr marL="174600" indent="-174600">
              <a:spcBef>
                <a:spcPts val="45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377640" indent="-144360">
              <a:spcBef>
                <a:spcPts val="451"/>
              </a:spcBef>
              <a:buClr>
                <a:srgbClr val="bbe0e3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58176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8146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0468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EllumLogo"/>
          <p:cNvPicPr/>
          <p:nvPr/>
        </p:nvPicPr>
        <p:blipFill>
          <a:blip r:embed="rId2"/>
          <a:stretch/>
        </p:blipFill>
        <p:spPr>
          <a:xfrm>
            <a:off x="0" y="349200"/>
            <a:ext cx="4257720" cy="2276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kidstitle"/>
          <p:cNvPicPr/>
          <p:nvPr/>
        </p:nvPicPr>
        <p:blipFill>
          <a:blip r:embed="rId3"/>
          <a:stretch/>
        </p:blipFill>
        <p:spPr>
          <a:xfrm>
            <a:off x="1187280" y="3116160"/>
            <a:ext cx="57628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8"/>
          <p:cNvSpPr/>
          <p:nvPr/>
        </p:nvSpPr>
        <p:spPr>
          <a:xfrm>
            <a:off x="0" y="301788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9"/>
          </p:nvPr>
        </p:nvSpPr>
        <p:spPr>
          <a:xfrm>
            <a:off x="-360" y="435924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0"/>
          </p:nvPr>
        </p:nvSpPr>
        <p:spPr>
          <a:xfrm>
            <a:off x="-36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Copyright 2008 Elluminate, I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Copyright 2009 Elluminate, In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93640" y="1980720"/>
            <a:ext cx="4724280" cy="809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Elluminate </a:t>
            </a:r>
            <a:r>
              <a:rPr b="0" i="1" lang="en-US" sz="2600" spc="-1" strike="noStrike">
                <a:solidFill>
                  <a:srgbClr val="003399"/>
                </a:solidFill>
                <a:latin typeface="Arial Black"/>
              </a:rPr>
              <a:t>Live!  </a:t>
            </a: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v9.5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45920" y="2619360"/>
            <a:ext cx="4694040" cy="504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Narrow"/>
              </a:rPr>
              <a:t>Participant Orientation</a:t>
            </a:r>
            <a:endParaRPr b="0" lang="en-US" sz="2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9"/>
          <p:cNvSpPr/>
          <p:nvPr/>
        </p:nvSpPr>
        <p:spPr>
          <a:xfrm>
            <a:off x="2792520" y="318132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boar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H="1" flipV="1">
            <a:off x="3141360" y="2743200"/>
            <a:ext cx="228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1722600" y="0"/>
            <a:ext cx="480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The Participant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6" descr="participantsinterface"/>
          <p:cNvPicPr/>
          <p:nvPr/>
        </p:nvPicPr>
        <p:blipFill>
          <a:blip r:embed="rId1"/>
          <a:stretch/>
        </p:blipFill>
        <p:spPr>
          <a:xfrm>
            <a:off x="1038240" y="914400"/>
            <a:ext cx="5713560" cy="369576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ular Callout 5" descr=""/>
          <p:cNvPicPr/>
          <p:nvPr/>
        </p:nvPicPr>
        <p:blipFill>
          <a:blip r:embed="rId2"/>
          <a:stretch/>
        </p:blipFill>
        <p:spPr>
          <a:xfrm>
            <a:off x="3676680" y="743040"/>
            <a:ext cx="1120680" cy="81108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ular Callout 6" descr=""/>
          <p:cNvPicPr/>
          <p:nvPr/>
        </p:nvPicPr>
        <p:blipFill>
          <a:blip r:embed="rId3"/>
          <a:stretch/>
        </p:blipFill>
        <p:spPr>
          <a:xfrm>
            <a:off x="19080" y="2798640"/>
            <a:ext cx="1103400" cy="57780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ular Callout 7" descr=""/>
          <p:cNvPicPr/>
          <p:nvPr/>
        </p:nvPicPr>
        <p:blipFill>
          <a:blip r:embed="rId4"/>
          <a:stretch/>
        </p:blipFill>
        <p:spPr>
          <a:xfrm>
            <a:off x="19080" y="3943440"/>
            <a:ext cx="110340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ular Callout 8" descr=""/>
          <p:cNvPicPr/>
          <p:nvPr/>
        </p:nvPicPr>
        <p:blipFill>
          <a:blip r:embed="rId5"/>
          <a:stretch/>
        </p:blipFill>
        <p:spPr>
          <a:xfrm>
            <a:off x="19080" y="1427040"/>
            <a:ext cx="11034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onnection Speed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26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t your Connection Speed</a:t>
            </a:r>
            <a:r>
              <a:rPr b="0" lang="en-US" sz="13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PC:   Tool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Mac: Elluminate </a:t>
            </a:r>
            <a:r>
              <a:rPr b="0" i="1" lang="en-US" sz="1600" spc="-1" strike="noStrike">
                <a:solidFill>
                  <a:srgbClr val="003399"/>
                </a:solidFill>
                <a:latin typeface="Arial Narrow"/>
              </a:rPr>
              <a:t>Live!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408480" y="22417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193920" y="2146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313080" y="21654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898720" y="40132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7" descr=""/>
          <p:cNvPicPr/>
          <p:nvPr/>
        </p:nvPicPr>
        <p:blipFill>
          <a:blip r:embed="rId1"/>
          <a:stretch/>
        </p:blipFill>
        <p:spPr>
          <a:xfrm>
            <a:off x="2712960" y="2133720"/>
            <a:ext cx="363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160" y="255600"/>
            <a:ext cx="5916600" cy="6429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articipants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1000" y="1117080"/>
            <a:ext cx="6092640" cy="1955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aise/Lower Han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Emoticon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oll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tep Awa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408480" y="24433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394080" y="2443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193920" y="23479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313080" y="23670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98720" y="42148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3524400" y="383544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5" descr="PPTA"/>
          <p:cNvPicPr/>
          <p:nvPr/>
        </p:nvPicPr>
        <p:blipFill>
          <a:blip r:embed="rId1"/>
          <a:stretch/>
        </p:blipFill>
        <p:spPr>
          <a:xfrm>
            <a:off x="2789280" y="1355760"/>
            <a:ext cx="31208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6832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Audio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7360" y="1294920"/>
            <a:ext cx="6175440" cy="3319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Microphon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Audio Setup Utilit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ools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Setup Wizard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Optimal Microphone Sett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0" name="Picture 32" descr="audiowindow"/>
          <p:cNvPicPr/>
          <p:nvPr/>
        </p:nvPicPr>
        <p:blipFill>
          <a:blip r:embed="rId1"/>
          <a:stretch/>
        </p:blipFill>
        <p:spPr>
          <a:xfrm>
            <a:off x="808200" y="3657600"/>
            <a:ext cx="22809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"/>
          <p:cNvPicPr/>
          <p:nvPr/>
        </p:nvPicPr>
        <p:blipFill>
          <a:blip r:embed="rId2"/>
          <a:stretch/>
        </p:blipFill>
        <p:spPr>
          <a:xfrm>
            <a:off x="2865600" y="1306440"/>
            <a:ext cx="228600" cy="217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51040" y="3255480"/>
            <a:ext cx="3051000" cy="95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3" name="Picture 34" descr=""/>
          <p:cNvPicPr/>
          <p:nvPr/>
        </p:nvPicPr>
        <p:blipFill>
          <a:blip r:embed="rId3"/>
          <a:stretch/>
        </p:blipFill>
        <p:spPr>
          <a:xfrm>
            <a:off x="3322800" y="2352600"/>
            <a:ext cx="2400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295200"/>
            <a:ext cx="4737240" cy="542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hat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1960" y="1142640"/>
            <a:ext cx="5037120" cy="365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Chat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nd a Text Messag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ublic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rivat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2322360" y="8478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452680" y="373536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chatwindow"/>
          <p:cNvPicPr/>
          <p:nvPr/>
        </p:nvPicPr>
        <p:blipFill>
          <a:blip r:embed="rId1"/>
          <a:stretch/>
        </p:blipFill>
        <p:spPr>
          <a:xfrm>
            <a:off x="2562120" y="1676520"/>
            <a:ext cx="3367080" cy="2365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2"/>
          <a:stretch/>
        </p:blipFill>
        <p:spPr>
          <a:xfrm>
            <a:off x="2332080" y="1143000"/>
            <a:ext cx="355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22240" y="187200"/>
            <a:ext cx="336060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Whiteboard Tools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91600" y="114156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the Whiteboar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379680" y="24242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632160" y="1828800"/>
            <a:ext cx="5074560" cy="2141640"/>
            <a:chOff x="632160" y="1828800"/>
            <a:chExt cx="5074560" cy="2141640"/>
          </a:xfrm>
        </p:grpSpPr>
        <p:pic>
          <p:nvPicPr>
            <p:cNvPr id="424" name="Picture 16" descr=""/>
            <p:cNvPicPr/>
            <p:nvPr/>
          </p:nvPicPr>
          <p:blipFill>
            <a:blip r:embed="rId1"/>
            <a:srcRect l="30655" t="18738" r="64524" b="58650"/>
            <a:stretch/>
          </p:blipFill>
          <p:spPr>
            <a:xfrm>
              <a:off x="3065400" y="1828800"/>
              <a:ext cx="60804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Line 18"/>
            <p:cNvSpPr/>
            <p:nvPr/>
          </p:nvSpPr>
          <p:spPr>
            <a:xfrm>
              <a:off x="2455920" y="205596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2455920" y="23306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>
              <a:off x="2457360" y="2605320"/>
              <a:ext cx="609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1"/>
            <p:cNvSpPr/>
            <p:nvPr/>
          </p:nvSpPr>
          <p:spPr>
            <a:xfrm>
              <a:off x="2455920" y="283212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455920" y="30704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55920" y="33084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55920" y="35640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55920" y="37926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3674880" y="20574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 flipH="1">
              <a:off x="3674880" y="23306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>
              <a:off x="3674880" y="26053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>
              <a:off x="3674880" y="28321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>
              <a:off x="3674880" y="30704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>
              <a:off x="3674880" y="330516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3674880" y="35640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3631680" y="3210120"/>
              <a:ext cx="188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er Poi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7"/>
            <p:cNvSpPr/>
            <p:nvPr/>
          </p:nvSpPr>
          <p:spPr>
            <a:xfrm>
              <a:off x="3634200" y="3457800"/>
              <a:ext cx="145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p 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8"/>
            <p:cNvSpPr/>
            <p:nvPr/>
          </p:nvSpPr>
          <p:spPr>
            <a:xfrm>
              <a:off x="3629520" y="2952720"/>
              <a:ext cx="2077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3630240" y="2724120"/>
              <a:ext cx="1841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3627720" y="1952640"/>
              <a:ext cx="13824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3631320" y="2210040"/>
              <a:ext cx="1710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ligh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2"/>
            <p:cNvSpPr/>
            <p:nvPr/>
          </p:nvSpPr>
          <p:spPr>
            <a:xfrm>
              <a:off x="3630240" y="2486160"/>
              <a:ext cx="170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 Ed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3"/>
            <p:cNvSpPr/>
            <p:nvPr/>
          </p:nvSpPr>
          <p:spPr>
            <a:xfrm>
              <a:off x="1108440" y="1933560"/>
              <a:ext cx="1585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4"/>
            <p:cNvSpPr/>
            <p:nvPr/>
          </p:nvSpPr>
          <p:spPr>
            <a:xfrm>
              <a:off x="1492920" y="2210040"/>
              <a:ext cx="1185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1472400" y="24955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1308600" y="2724120"/>
              <a:ext cx="139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47"/>
            <p:cNvSpPr/>
            <p:nvPr/>
          </p:nvSpPr>
          <p:spPr>
            <a:xfrm>
              <a:off x="1069920" y="2962440"/>
              <a:ext cx="163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8"/>
            <p:cNvSpPr/>
            <p:nvPr/>
          </p:nvSpPr>
          <p:spPr>
            <a:xfrm>
              <a:off x="1477800" y="32101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9"/>
            <p:cNvSpPr/>
            <p:nvPr/>
          </p:nvSpPr>
          <p:spPr>
            <a:xfrm>
              <a:off x="632160" y="3451320"/>
              <a:ext cx="208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ort an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678240" y="3676680"/>
              <a:ext cx="2034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een Cap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53" descr=""/>
          <p:cNvPicPr/>
          <p:nvPr/>
        </p:nvPicPr>
        <p:blipFill>
          <a:blip r:embed="rId2"/>
          <a:stretch/>
        </p:blipFill>
        <p:spPr>
          <a:xfrm>
            <a:off x="3017880" y="1262160"/>
            <a:ext cx="228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26800" y="230040"/>
            <a:ext cx="480708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olling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27160" y="114120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ype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Yes/No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Multiple Choi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lowdown/Speedup Class Pa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esponses will appear in the Participants window if the moderator has selected to show them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2452680" y="38354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22360" y="5284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5" descr=""/>
          <p:cNvPicPr/>
          <p:nvPr/>
        </p:nvPicPr>
        <p:blipFill>
          <a:blip r:embed="rId1"/>
          <a:stretch/>
        </p:blipFill>
        <p:spPr>
          <a:xfrm>
            <a:off x="3398760" y="1447920"/>
            <a:ext cx="27648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6" descr=""/>
          <p:cNvPicPr/>
          <p:nvPr/>
        </p:nvPicPr>
        <p:blipFill>
          <a:blip r:embed="rId2"/>
          <a:stretch/>
        </p:blipFill>
        <p:spPr>
          <a:xfrm>
            <a:off x="4008600" y="1828800"/>
            <a:ext cx="475920" cy="466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7" descr=""/>
          <p:cNvPicPr/>
          <p:nvPr/>
        </p:nvPicPr>
        <p:blipFill>
          <a:blip r:embed="rId3"/>
          <a:stretch/>
        </p:blipFill>
        <p:spPr>
          <a:xfrm>
            <a:off x="5456160" y="2209680"/>
            <a:ext cx="304920" cy="44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Participants_Window_Activity_Indicators.gif"/>
          <p:cNvPicPr/>
          <p:nvPr/>
        </p:nvPicPr>
        <p:blipFill>
          <a:blip r:embed="rId4"/>
          <a:srcRect l="31657" t="9862" r="0" b="0"/>
          <a:stretch/>
        </p:blipFill>
        <p:spPr>
          <a:xfrm>
            <a:off x="4160880" y="96840"/>
            <a:ext cx="1600200" cy="1351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2"/>
          <p:cNvSpPr/>
          <p:nvPr/>
        </p:nvSpPr>
        <p:spPr>
          <a:xfrm>
            <a:off x="5227560" y="1066680"/>
            <a:ext cx="304920" cy="381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1000" y="75960"/>
            <a:ext cx="6254640" cy="59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esource Materials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54040" y="685440"/>
            <a:ext cx="6184800" cy="3902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Visit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training</a:t>
            </a: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 for: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User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Quick Reference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corded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gister for Live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Elluminate Technical Support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http://www.elluminate.com/support/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The Elluminate User Group available from </a:t>
            </a:r>
            <a:r>
              <a:rPr b="1" lang="en-US" sz="1600" spc="-1" strike="noStrike" u="sng">
                <a:solidFill>
                  <a:srgbClr val="233e99"/>
                </a:solidFill>
                <a:uFillTx/>
                <a:latin typeface="Arial Narrow"/>
              </a:rPr>
              <a:t>www.learncentral.com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3 for Free vRoom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vroom/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48:14Z</dcterms:created>
  <dc:creator>Training</dc:creator>
  <dc:description/>
  <dc:language>en-US</dc:language>
  <cp:lastModifiedBy> </cp:lastModifiedBy>
  <dcterms:modified xsi:type="dcterms:W3CDTF">2009-06-25T16:25:51Z</dcterms:modified>
  <cp:revision>203</cp:revision>
  <dc:subject/>
  <dc:title>Elluminate, Inc</dc:title>
</cp:coreProperties>
</file>