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6951663" cy="50292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dt" idx="11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sldImg"/>
          </p:nvPr>
        </p:nvSpPr>
        <p:spPr>
          <a:xfrm>
            <a:off x="1170000" y="720360"/>
            <a:ext cx="49752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Click to move the slide</a:t>
            </a: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ftr" idx="12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 type="sldNum" idx="13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778C18-D332-44ED-ACAF-0C481BB24C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098B6E-F54B-48B4-B3BC-F2E4395B37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73240" y="720720"/>
            <a:ext cx="4975200" cy="36003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73C67-DEAD-4710-9024-14EB08E494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641E3-E2A9-4452-84C8-EEA5017BC97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347760" y="201600"/>
            <a:ext cx="6254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2462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34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2462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457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1613E-CCB6-4181-BCFD-8AF96CB9CB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62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462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57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179A2-36CA-4520-B0B0-CB4F0FA307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41E20-D4D3-42EF-9258-A78049ECA3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4C592-D30F-43A7-841B-C343A81F32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C0D54-6CC9-4DB5-A23D-A278FB45A8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7839A-276F-4BA1-AE95-9BCAB59C6D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E4C0C-0008-4D6B-BC8E-DBDFA18E26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47760" y="201600"/>
            <a:ext cx="6254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91033-5AD3-41E8-931C-F9B7775824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D59D9-B528-4DA4-9FD6-367AF0FE22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EB4D8-97D6-4D9D-803F-FB8260DA48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6DE38-A64F-4273-8ED4-2F53280CBF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F25A5-72B5-406E-AFD2-EF4F19C598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FB705-52E3-4E41-A49F-EDD14BC0EC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1134C-4AF0-4B71-B2F3-BC595D0556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62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4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62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57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D802A-470B-4C22-AB57-85DE5C379CC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0419-6038-4DF8-8D92-04C55750B5F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2CCB-D249-4CCE-8829-6AC0E6783B2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84D1-0FDA-4FC5-9337-EE2FF4216D7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DDA2-FCFA-4B17-8259-558E47574A5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47AD-FD2C-4843-817D-B8234BF465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20F6C-1931-4701-A426-AF37C16D9E7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47760" y="201600"/>
            <a:ext cx="6254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8665-4EAC-48E1-8C1B-47A44A0B951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41D5-9070-41A2-9A4C-DF7A037E83A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DDDC-D7E4-411C-B849-73A75BD8CFD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ECE1-56B8-421A-AF69-5FB80E72C00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DE78-26C9-424A-BC3F-030442A5FEA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CD7A-FA9F-4EAE-B30D-F1C9E1B31A4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462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4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462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457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C6E8-E2F0-4EFD-A22D-CE209C2B5AF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4C9D47-6539-455D-9FF0-79A8FD2A371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10771-456B-4A23-ACD9-902B4FD4B55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1B9ED6-C54A-455E-A726-B31585AFB7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D402A-0A6E-459C-A33A-C5C696E5E80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DCA218-1055-47D9-95CE-21B7776B39F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1486BA-6304-4023-8A3C-307F4892D8A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47760" y="201600"/>
            <a:ext cx="6254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69622C-27A8-407A-A515-5619298A454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72486-9468-4FCA-9B37-FD4E001B0C9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B38CE8-C81F-4C4C-8A24-8BBF0CB02CB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98021C-C2E8-448D-A2A0-99EB60236AE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20A72-76BF-439B-9940-6874924B1B7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D46664-B2F9-4021-B95B-970F987DFBF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462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4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2462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457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B2E7C3-674C-4261-A2D1-D1C93296E52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C74B5-1287-4054-A99A-95D6B4EC9F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42634-FC5D-4273-A471-B69ADD32B0B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CCBF5B-FC33-4FBC-91DB-C15C502329A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5BFAB-9BA2-4884-AA04-FD1731A5022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D258A2-F7D9-40B0-8038-649C19098D4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4E3EC6-BB66-4CE2-9DC8-4EA4FD8B393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347760" y="201600"/>
            <a:ext cx="6254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65BDE-3389-49FE-874F-D7321CD99E0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001FAA-E882-42B7-ABD4-53F2A2255EF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A9EA2-2D55-42CF-B3F5-0F523FFC4E1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E777FF-6500-45AD-9EDB-B26E7A0CDE2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680F33-6F32-4B13-A979-6EAF1AD5757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29FE8-D5D7-4CE7-A98E-C509879203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47760" y="201600"/>
            <a:ext cx="6254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CEC7C-5CE1-4B20-936F-15DF30AFB23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462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34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462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457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116D4-2A49-445D-A329-CEAA3A2E694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92D9-19A2-420F-A993-5812313BC64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5C6C8-1F18-4426-B0BA-BE946B3D359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1504-E7A2-4A53-BAD1-84B654BD418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0269-D006-4ECE-A894-4072BF19FDF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75F9-59C1-4861-884B-0E26DB069BE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47760" y="201600"/>
            <a:ext cx="6254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34C8-726B-4E2B-82E5-163D7E34249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EA30-164E-46B1-A8F6-1C002D30B38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7233-89C4-49D7-9FEE-8556BF7BD03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ED98-4B89-407B-8030-080BB27990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F0804-043F-4E81-8B9F-9EB52C1B1FF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A08D-0345-4232-8C75-70FC126FDF4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D974-B668-444B-A216-F566A2E36BE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2462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34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2462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457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31FD-425E-4F83-9C14-EB2BFB9516B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F148C9-919F-4E4F-A8A5-F659D9F1628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D742D3-69D6-493B-8EE6-053B278FA57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824E13-42FF-4BA3-9E5C-F1458C24B09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C257E4-0812-4D0D-8142-F2A639FF04B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5E7BFA-02F5-41CB-BA10-A7E09CEC9B1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347760" y="201600"/>
            <a:ext cx="6254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5EA33F-BA9F-4800-879E-599F9E08552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F7E1C3-3E6F-46FB-9EDD-A8FDD79A0F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7070F-1F19-4B60-8D88-0FDBBE07A04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4C39A3-1D0C-4CC5-A947-D17CD3C08D0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B2E249-F6C9-4962-8140-7A5D19CF631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CFD72B-58D7-4732-A555-2B39F19DB12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CCF09E-6A84-4EE9-8212-F748046425D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2462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34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2462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457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35C4AA-D1A6-4180-9C43-D9BF8BD13D0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6C1BC2-E8D4-48E2-94A8-D2DF319953E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6DCB07-FBAA-4397-B50C-44049AE62CD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D423B6-11F7-4ADA-9AD1-BAB60932225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22BCB0-6E91-4185-B88E-85897748412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F3955A-4467-414F-B7E7-ECA1D1CA82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53BD9-6702-447C-81BA-1165D16709B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347760" y="201600"/>
            <a:ext cx="6254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F39769-83C3-44DC-B0C9-D89BDE8BDE8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A9267F-01F2-4518-B5D5-0F3EF71AA23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9A262E-A548-41E0-9CAC-CA02606540E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2E73B8-49E5-46A8-98B3-17C369CCA2B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EB12BB-D19E-40B9-8B33-A340A56B595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4FB73A-76DF-4902-9EFB-19817930CCC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2462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34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2462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457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A4FD53-024E-40BE-8488-1AF6C71D843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llumLogo"/>
          <p:cNvPicPr/>
          <p:nvPr/>
        </p:nvPicPr>
        <p:blipFill>
          <a:blip r:embed="rId2"/>
          <a:stretch/>
        </p:blipFill>
        <p:spPr>
          <a:xfrm>
            <a:off x="115920" y="4083120"/>
            <a:ext cx="1665360" cy="890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glassesguy"/>
          <p:cNvPicPr/>
          <p:nvPr/>
        </p:nvPicPr>
        <p:blipFill>
          <a:blip r:embed="rId3"/>
          <a:stretch/>
        </p:blipFill>
        <p:spPr>
          <a:xfrm>
            <a:off x="4278240" y="3946680"/>
            <a:ext cx="2671920" cy="108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604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47760" y="1117440"/>
            <a:ext cx="6254640" cy="2346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spcBef>
                <a:spcPts val="451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2" marL="855720" indent="-171360">
              <a:spcBef>
                <a:spcPts val="451"/>
              </a:spcBef>
              <a:buClr>
                <a:srgbClr val="99ccff"/>
              </a:buClr>
              <a:buFont typeface="Arial Narrow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3" marL="1198440" indent="-171360">
              <a:spcBef>
                <a:spcPts val="451"/>
              </a:spcBef>
              <a:buClr>
                <a:srgbClr val="99ccff"/>
              </a:buClr>
              <a:buFont typeface="Arial Narrow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4" marL="1539720" indent="-171360">
              <a:spcBef>
                <a:spcPts val="451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5" marL="1539720" indent="-1713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6" marL="1539720" indent="-1713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5038200" y="4568760"/>
            <a:ext cx="1622520" cy="34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62BA-DC6F-4DEF-933E-383829ACD56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3855960"/>
            <a:ext cx="6950160" cy="166680"/>
          </a:xfrm>
          <a:prstGeom prst="rect">
            <a:avLst/>
          </a:prstGeom>
          <a:solidFill>
            <a:srgbClr val="223e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llumLogo"/>
          <p:cNvPicPr/>
          <p:nvPr/>
        </p:nvPicPr>
        <p:blipFill>
          <a:blip r:embed="rId2"/>
          <a:stretch/>
        </p:blipFill>
        <p:spPr>
          <a:xfrm>
            <a:off x="115920" y="55440"/>
            <a:ext cx="1665360" cy="890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kidonlaptop"/>
          <p:cNvPicPr/>
          <p:nvPr/>
        </p:nvPicPr>
        <p:blipFill>
          <a:blip r:embed="rId3"/>
          <a:stretch/>
        </p:blipFill>
        <p:spPr>
          <a:xfrm>
            <a:off x="3822840" y="0"/>
            <a:ext cx="3127320" cy="992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7760" y="115092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47760" y="2066400"/>
            <a:ext cx="6254640" cy="19004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 fontScale="81000"/>
          </a:bodyPr>
          <a:p>
            <a:pPr marL="208080" indent="-208080">
              <a:spcBef>
                <a:spcPts val="45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1" marL="449640" indent="-171720">
              <a:spcBef>
                <a:spcPts val="451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2" marL="693000" indent="-138600">
              <a:spcBef>
                <a:spcPts val="451"/>
              </a:spcBef>
              <a:buClr>
                <a:srgbClr val="99ccff"/>
              </a:buClr>
              <a:buFont typeface="Arial Narrow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3" marL="970560" indent="-138600">
              <a:spcBef>
                <a:spcPts val="451"/>
              </a:spcBef>
              <a:buClr>
                <a:srgbClr val="99ccff"/>
              </a:buClr>
              <a:buFont typeface="Arial Narrow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4" marL="1247040" indent="-138600">
              <a:spcBef>
                <a:spcPts val="451"/>
              </a:spcBef>
              <a:buClr>
                <a:srgbClr val="99ccff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5" marL="1247040" indent="-13860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6" marL="1247040" indent="-13860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4981680" y="4579920"/>
            <a:ext cx="1620720" cy="34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9127-1686-4B95-93BA-49EC51CCBE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0" y="949320"/>
            <a:ext cx="6950160" cy="168120"/>
          </a:xfrm>
          <a:prstGeom prst="rect">
            <a:avLst/>
          </a:prstGeom>
          <a:solidFill>
            <a:srgbClr val="223e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EllumLogo"/>
          <p:cNvPicPr/>
          <p:nvPr/>
        </p:nvPicPr>
        <p:blipFill>
          <a:blip r:embed="rId2"/>
          <a:stretch/>
        </p:blipFill>
        <p:spPr>
          <a:xfrm>
            <a:off x="115920" y="4083120"/>
            <a:ext cx="1665360" cy="890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sunrays"/>
          <p:cNvPicPr/>
          <p:nvPr/>
        </p:nvPicPr>
        <p:blipFill>
          <a:blip r:embed="rId3"/>
          <a:srcRect l="0" t="0" r="31859" b="35920"/>
          <a:stretch/>
        </p:blipFill>
        <p:spPr>
          <a:xfrm>
            <a:off x="4280040" y="2403360"/>
            <a:ext cx="2670120" cy="26258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spcBef>
                <a:spcPts val="451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2" marL="855720" indent="-171360">
              <a:spcBef>
                <a:spcPts val="451"/>
              </a:spcBef>
              <a:buClr>
                <a:srgbClr val="99ccff"/>
              </a:buClr>
              <a:buFont typeface="Arial Narrow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3" marL="1198440" indent="-171360">
              <a:spcBef>
                <a:spcPts val="451"/>
              </a:spcBef>
              <a:buClr>
                <a:srgbClr val="99ccff"/>
              </a:buClr>
              <a:buFont typeface="Arial Narrow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4" marL="1539720" indent="-171360">
              <a:spcBef>
                <a:spcPts val="451"/>
              </a:spcBef>
              <a:buClr>
                <a:srgbClr val="99ccff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5" marL="1539720" indent="-17136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6" marL="1539720" indent="-17136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3"/>
          </p:nvPr>
        </p:nvSpPr>
        <p:spPr>
          <a:xfrm>
            <a:off x="4981680" y="4579920"/>
            <a:ext cx="1620720" cy="34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8E55-8117-4C78-B2AB-A0996728220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42720" y="347760"/>
            <a:ext cx="387972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142720" y="1263600"/>
            <a:ext cx="4459320" cy="27036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spcBef>
                <a:spcPts val="451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2" marL="855720" indent="-171360">
              <a:spcBef>
                <a:spcPts val="451"/>
              </a:spcBef>
              <a:buClr>
                <a:srgbClr val="99ccff"/>
              </a:buClr>
              <a:buFont typeface="Arial Narrow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3" marL="1198440" indent="-171360">
              <a:spcBef>
                <a:spcPts val="451"/>
              </a:spcBef>
              <a:buClr>
                <a:srgbClr val="99ccff"/>
              </a:buClr>
              <a:buFont typeface="Arial Narrow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4" marL="1539720" indent="-171360">
              <a:spcBef>
                <a:spcPts val="451"/>
              </a:spcBef>
              <a:buClr>
                <a:srgbClr val="99ccff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5" marL="1539720" indent="-17136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6" marL="1539720" indent="-17136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4981680" y="4579920"/>
            <a:ext cx="1620720" cy="34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57A2-D083-47D5-A69C-9753F36C1B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5" descr="teacherguy"/>
          <p:cNvPicPr/>
          <p:nvPr/>
        </p:nvPicPr>
        <p:blipFill>
          <a:blip r:embed="rId2"/>
          <a:stretch/>
        </p:blipFill>
        <p:spPr>
          <a:xfrm>
            <a:off x="0" y="2465280"/>
            <a:ext cx="1852560" cy="2563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EllumLogo"/>
          <p:cNvPicPr/>
          <p:nvPr/>
        </p:nvPicPr>
        <p:blipFill>
          <a:blip r:embed="rId3"/>
          <a:stretch/>
        </p:blipFill>
        <p:spPr>
          <a:xfrm>
            <a:off x="0" y="111240"/>
            <a:ext cx="1665360" cy="8906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7"/>
          <p:cNvSpPr/>
          <p:nvPr/>
        </p:nvSpPr>
        <p:spPr>
          <a:xfrm>
            <a:off x="1738440" y="0"/>
            <a:ext cx="172800" cy="5029200"/>
          </a:xfrm>
          <a:prstGeom prst="rect">
            <a:avLst/>
          </a:prstGeom>
          <a:solidFill>
            <a:srgbClr val="223e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sunrays"/>
          <p:cNvPicPr/>
          <p:nvPr/>
        </p:nvPicPr>
        <p:blipFill>
          <a:blip r:embed="rId2"/>
          <a:srcRect l="0" t="31859" r="35920" b="0"/>
          <a:stretch/>
        </p:blipFill>
        <p:spPr>
          <a:xfrm>
            <a:off x="4633920" y="0"/>
            <a:ext cx="2316240" cy="20620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EllumLogo"/>
          <p:cNvPicPr/>
          <p:nvPr/>
        </p:nvPicPr>
        <p:blipFill>
          <a:blip r:embed="rId3"/>
          <a:stretch/>
        </p:blipFill>
        <p:spPr>
          <a:xfrm>
            <a:off x="57240" y="55440"/>
            <a:ext cx="1665360" cy="8906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47760" y="90648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347760" y="1877760"/>
            <a:ext cx="6254640" cy="2592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spcBef>
                <a:spcPts val="451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2" marL="855720" indent="-171360">
              <a:spcBef>
                <a:spcPts val="451"/>
              </a:spcBef>
              <a:buClr>
                <a:srgbClr val="99ccff"/>
              </a:buClr>
              <a:buFont typeface="Arial Narrow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3" marL="1198440" indent="-171360">
              <a:spcBef>
                <a:spcPts val="451"/>
              </a:spcBef>
              <a:buClr>
                <a:srgbClr val="99ccff"/>
              </a:buClr>
              <a:buFont typeface="Arial Narrow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4" marL="1539720" indent="-171360">
              <a:spcBef>
                <a:spcPts val="451"/>
              </a:spcBef>
              <a:buClr>
                <a:srgbClr val="99ccff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5" marL="1539720" indent="-17136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6" marL="1539720" indent="-17136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5"/>
          </p:nvPr>
        </p:nvSpPr>
        <p:spPr>
          <a:xfrm>
            <a:off x="4981680" y="4579920"/>
            <a:ext cx="1620720" cy="34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1218-800A-4D37-A52E-A1A2F12F14F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EllumLogo"/>
          <p:cNvPicPr/>
          <p:nvPr/>
        </p:nvPicPr>
        <p:blipFill>
          <a:blip r:embed="rId2"/>
          <a:stretch/>
        </p:blipFill>
        <p:spPr>
          <a:xfrm>
            <a:off x="57240" y="55440"/>
            <a:ext cx="1738080" cy="93024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3"/>
          <p:cNvSpPr/>
          <p:nvPr/>
        </p:nvSpPr>
        <p:spPr>
          <a:xfrm>
            <a:off x="0" y="949320"/>
            <a:ext cx="6950160" cy="40798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9080" y="1173240"/>
            <a:ext cx="625608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289080" y="2145960"/>
            <a:ext cx="6256080" cy="20667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 fontScale="88000"/>
          </a:bodyPr>
          <a:p>
            <a:pPr marL="226080" indent="-226080">
              <a:spcBef>
                <a:spcPts val="45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488520" indent="-186840">
              <a:spcBef>
                <a:spcPts val="451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752760" indent="-150480">
              <a:spcBef>
                <a:spcPts val="451"/>
              </a:spcBef>
              <a:buClr>
                <a:srgbClr val="99ccff"/>
              </a:buClr>
              <a:buFont typeface="Arial Narrow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3" marL="1054440" indent="-150480">
              <a:spcBef>
                <a:spcPts val="451"/>
              </a:spcBef>
              <a:buClr>
                <a:srgbClr val="99ccff"/>
              </a:buClr>
              <a:buFont typeface="Arial Narrow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4" marL="1354680" indent="-150480">
              <a:spcBef>
                <a:spcPts val="451"/>
              </a:spcBef>
              <a:buClr>
                <a:srgbClr val="99ccff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5" marL="1354680" indent="-15048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6" marL="1354680" indent="-15048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6"/>
          </p:nvPr>
        </p:nvSpPr>
        <p:spPr>
          <a:xfrm>
            <a:off x="4981680" y="4579920"/>
            <a:ext cx="1620720" cy="34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05DF-1032-49B9-A7BD-727BD8E31D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47760" y="117324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347760" y="2145960"/>
            <a:ext cx="6254640" cy="20667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 fontScale="88000"/>
          </a:bodyPr>
          <a:p>
            <a:pPr marL="226080" indent="-226080">
              <a:spcBef>
                <a:spcPts val="451"/>
              </a:spcBef>
              <a:buClr>
                <a:srgbClr val="99ccff"/>
              </a:buClr>
              <a:buFont typeface="Arial Narrow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1" marL="488520" indent="-186840">
              <a:spcBef>
                <a:spcPts val="451"/>
              </a:spcBef>
              <a:buClr>
                <a:srgbClr val="99ccff"/>
              </a:buClr>
              <a:buFont typeface="Arial Narrow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2" marL="752760" indent="-150480">
              <a:spcBef>
                <a:spcPts val="451"/>
              </a:spcBef>
              <a:buClr>
                <a:srgbClr val="99ccff"/>
              </a:buClr>
              <a:buFont typeface="Arial Narrow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3" marL="1054440" indent="-150480">
              <a:spcBef>
                <a:spcPts val="451"/>
              </a:spcBef>
              <a:buClr>
                <a:srgbClr val="99ccff"/>
              </a:buClr>
              <a:buFont typeface="Arial Narrow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4" marL="1354680" indent="-150480">
              <a:spcBef>
                <a:spcPts val="451"/>
              </a:spcBef>
              <a:buClr>
                <a:srgbClr val="99ccff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5" marL="1354680" indent="-15048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6" marL="1354680" indent="-15048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Num" idx="7"/>
          </p:nvPr>
        </p:nvSpPr>
        <p:spPr>
          <a:xfrm>
            <a:off x="4981680" y="4579920"/>
            <a:ext cx="1620720" cy="34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F88A-B50B-42CA-843E-51489EBC689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0" y="1006560"/>
            <a:ext cx="6950160" cy="166680"/>
          </a:xfrm>
          <a:prstGeom prst="rect">
            <a:avLst/>
          </a:prstGeom>
          <a:solidFill>
            <a:srgbClr val="223e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EllumLogo"/>
          <p:cNvPicPr/>
          <p:nvPr/>
        </p:nvPicPr>
        <p:blipFill>
          <a:blip r:embed="rId2"/>
          <a:stretch/>
        </p:blipFill>
        <p:spPr>
          <a:xfrm>
            <a:off x="14400" y="58680"/>
            <a:ext cx="16650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31480" y="223560"/>
            <a:ext cx="1447560" cy="20667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ldNum" idx="8"/>
          </p:nvPr>
        </p:nvSpPr>
        <p:spPr>
          <a:xfrm>
            <a:off x="4981680" y="4579920"/>
            <a:ext cx="1620720" cy="34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DBDE-D147-4C27-B602-E9545455F78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Picture 4" descr="logowrays"/>
          <p:cNvPicPr/>
          <p:nvPr/>
        </p:nvPicPr>
        <p:blipFill>
          <a:blip r:embed="rId2"/>
          <a:srcRect l="6052" t="0" r="0" b="0"/>
          <a:stretch/>
        </p:blipFill>
        <p:spPr>
          <a:xfrm>
            <a:off x="-4680" y="2570040"/>
            <a:ext cx="1800000" cy="245916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5"/>
          <p:cNvSpPr/>
          <p:nvPr/>
        </p:nvSpPr>
        <p:spPr>
          <a:xfrm>
            <a:off x="1738440" y="0"/>
            <a:ext cx="172800" cy="5029200"/>
          </a:xfrm>
          <a:prstGeom prst="rect">
            <a:avLst/>
          </a:prstGeom>
          <a:solidFill>
            <a:srgbClr val="223e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body"/>
          </p:nvPr>
        </p:nvSpPr>
        <p:spPr>
          <a:xfrm>
            <a:off x="2199960" y="223920"/>
            <a:ext cx="4344840" cy="16207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 fontScale="68000"/>
          </a:bodyPr>
          <a:p>
            <a:pPr marL="174600" indent="-174600">
              <a:spcBef>
                <a:spcPts val="451"/>
              </a:spcBef>
              <a:buClr>
                <a:srgbClr val="bbe0e3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1" marL="377640" indent="-144360">
              <a:spcBef>
                <a:spcPts val="451"/>
              </a:spcBef>
              <a:buClr>
                <a:srgbClr val="bbe0e3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2" marL="581760" indent="-116280">
              <a:spcBef>
                <a:spcPts val="451"/>
              </a:spcBef>
              <a:buClr>
                <a:srgbClr val="bbe0e3"/>
              </a:buClr>
              <a:buFont typeface="Arial Narrow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3" marL="814680" indent="-116280">
              <a:spcBef>
                <a:spcPts val="451"/>
              </a:spcBef>
              <a:buClr>
                <a:srgbClr val="bbe0e3"/>
              </a:buClr>
              <a:buFont typeface="Arial Narrow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4" marL="1046880" indent="-116280">
              <a:spcBef>
                <a:spcPts val="451"/>
              </a:spcBef>
              <a:buClr>
                <a:srgbClr val="bbe0e3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5" marL="1046880" indent="-11628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6" marL="1046880" indent="-11628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5" descr="EllumLogo"/>
          <p:cNvPicPr/>
          <p:nvPr/>
        </p:nvPicPr>
        <p:blipFill>
          <a:blip r:embed="rId2"/>
          <a:stretch/>
        </p:blipFill>
        <p:spPr>
          <a:xfrm>
            <a:off x="0" y="349200"/>
            <a:ext cx="4257720" cy="22766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kidstitle"/>
          <p:cNvPicPr/>
          <p:nvPr/>
        </p:nvPicPr>
        <p:blipFill>
          <a:blip r:embed="rId3"/>
          <a:stretch/>
        </p:blipFill>
        <p:spPr>
          <a:xfrm>
            <a:off x="1187280" y="3116160"/>
            <a:ext cx="5762880" cy="192096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8"/>
          <p:cNvSpPr/>
          <p:nvPr/>
        </p:nvSpPr>
        <p:spPr>
          <a:xfrm>
            <a:off x="0" y="3017880"/>
            <a:ext cx="6950160" cy="166680"/>
          </a:xfrm>
          <a:prstGeom prst="rect">
            <a:avLst/>
          </a:prstGeom>
          <a:solidFill>
            <a:srgbClr val="223e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604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347760" y="1117440"/>
            <a:ext cx="6254640" cy="2346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spcBef>
                <a:spcPts val="451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2" marL="855720" indent="-171360">
              <a:spcBef>
                <a:spcPts val="451"/>
              </a:spcBef>
              <a:buClr>
                <a:srgbClr val="99ccff"/>
              </a:buClr>
              <a:buFont typeface="Arial Narrow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3" marL="1198440" indent="-171360">
              <a:spcBef>
                <a:spcPts val="451"/>
              </a:spcBef>
              <a:buClr>
                <a:srgbClr val="99ccff"/>
              </a:buClr>
              <a:buFont typeface="Arial Narrow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4" marL="1539720" indent="-171360">
              <a:spcBef>
                <a:spcPts val="451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5" marL="1539720" indent="-1713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6" marL="1539720" indent="-1713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9"/>
          </p:nvPr>
        </p:nvSpPr>
        <p:spPr>
          <a:xfrm>
            <a:off x="-360" y="4359240"/>
            <a:ext cx="1622520" cy="34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10"/>
          </p:nvPr>
        </p:nvSpPr>
        <p:spPr>
          <a:xfrm>
            <a:off x="-360" y="4784760"/>
            <a:ext cx="1622520" cy="34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Arial"/>
              </a:rPr>
              <a:t>© Copyright 2008 Elluminate, Inc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0" y="4784760"/>
            <a:ext cx="1622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Copyright 2009 Elluminate, In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93640" y="1980720"/>
            <a:ext cx="4724280" cy="8096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 Black"/>
              </a:rPr>
              <a:t>Elluminate </a:t>
            </a:r>
            <a:r>
              <a:rPr b="0" i="1" lang="en-US" sz="2600" spc="-1" strike="noStrike">
                <a:solidFill>
                  <a:srgbClr val="003399"/>
                </a:solidFill>
                <a:latin typeface="Arial Black"/>
              </a:rPr>
              <a:t>Live!  </a:t>
            </a:r>
            <a:r>
              <a:rPr b="0" lang="en-US" sz="2600" spc="-1" strike="noStrike">
                <a:solidFill>
                  <a:srgbClr val="003399"/>
                </a:solidFill>
                <a:latin typeface="Arial Black"/>
              </a:rPr>
              <a:t>v9.5</a:t>
            </a:r>
            <a:endParaRPr b="0" lang="en-US" sz="2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645920" y="2619360"/>
            <a:ext cx="4694040" cy="5047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 Narrow"/>
              </a:rPr>
              <a:t>Participant Orientation</a:t>
            </a:r>
            <a:endParaRPr b="0" lang="en-US" sz="2200" spc="-1" strike="noStrike">
              <a:solidFill>
                <a:srgbClr val="00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9"/>
          <p:cNvSpPr/>
          <p:nvPr/>
        </p:nvSpPr>
        <p:spPr>
          <a:xfrm>
            <a:off x="2792520" y="3181320"/>
            <a:ext cx="1893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iteboard T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0"/>
          <p:cNvSpPr/>
          <p:nvPr/>
        </p:nvSpPr>
        <p:spPr>
          <a:xfrm flipH="1" flipV="1">
            <a:off x="3141360" y="2743200"/>
            <a:ext cx="228600" cy="45720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21"/>
          <p:cNvSpPr/>
          <p:nvPr/>
        </p:nvSpPr>
        <p:spPr>
          <a:xfrm>
            <a:off x="1722600" y="0"/>
            <a:ext cx="48085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 Black"/>
              </a:rPr>
              <a:t>The Participant Interf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26" descr="participantsinterface"/>
          <p:cNvPicPr/>
          <p:nvPr/>
        </p:nvPicPr>
        <p:blipFill>
          <a:blip r:embed="rId1"/>
          <a:stretch/>
        </p:blipFill>
        <p:spPr>
          <a:xfrm>
            <a:off x="1038240" y="914400"/>
            <a:ext cx="5713560" cy="3695760"/>
          </a:xfrm>
          <a:prstGeom prst="rect">
            <a:avLst/>
          </a:prstGeom>
          <a:ln w="0">
            <a:noFill/>
          </a:ln>
        </p:spPr>
      </p:pic>
      <p:pic>
        <p:nvPicPr>
          <p:cNvPr id="388" name="Rectangular Callout 5" descr=""/>
          <p:cNvPicPr/>
          <p:nvPr/>
        </p:nvPicPr>
        <p:blipFill>
          <a:blip r:embed="rId2"/>
          <a:stretch/>
        </p:blipFill>
        <p:spPr>
          <a:xfrm>
            <a:off x="3676680" y="743040"/>
            <a:ext cx="1120680" cy="811080"/>
          </a:xfrm>
          <a:prstGeom prst="rect">
            <a:avLst/>
          </a:prstGeom>
          <a:ln w="0">
            <a:noFill/>
          </a:ln>
        </p:spPr>
      </p:pic>
      <p:pic>
        <p:nvPicPr>
          <p:cNvPr id="389" name="Rectangular Callout 6" descr=""/>
          <p:cNvPicPr/>
          <p:nvPr/>
        </p:nvPicPr>
        <p:blipFill>
          <a:blip r:embed="rId3"/>
          <a:stretch/>
        </p:blipFill>
        <p:spPr>
          <a:xfrm>
            <a:off x="19080" y="2798640"/>
            <a:ext cx="1103400" cy="577800"/>
          </a:xfrm>
          <a:prstGeom prst="rect">
            <a:avLst/>
          </a:prstGeom>
          <a:ln w="0">
            <a:noFill/>
          </a:ln>
        </p:spPr>
      </p:pic>
      <p:pic>
        <p:nvPicPr>
          <p:cNvPr id="390" name="Rectangular Callout 7" descr=""/>
          <p:cNvPicPr/>
          <p:nvPr/>
        </p:nvPicPr>
        <p:blipFill>
          <a:blip r:embed="rId4"/>
          <a:stretch/>
        </p:blipFill>
        <p:spPr>
          <a:xfrm>
            <a:off x="19080" y="3943440"/>
            <a:ext cx="1103400" cy="579240"/>
          </a:xfrm>
          <a:prstGeom prst="rect">
            <a:avLst/>
          </a:prstGeom>
          <a:ln w="0">
            <a:noFill/>
          </a:ln>
        </p:spPr>
      </p:pic>
      <p:pic>
        <p:nvPicPr>
          <p:cNvPr id="391" name="Rectangular Callout 8" descr=""/>
          <p:cNvPicPr/>
          <p:nvPr/>
        </p:nvPicPr>
        <p:blipFill>
          <a:blip r:embed="rId5"/>
          <a:stretch/>
        </p:blipFill>
        <p:spPr>
          <a:xfrm>
            <a:off x="19080" y="1427040"/>
            <a:ext cx="1103400" cy="5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 Black"/>
              </a:rPr>
              <a:t>Connection Speed</a:t>
            </a:r>
            <a:endParaRPr b="0" lang="en-US" sz="2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-257040">
              <a:lnSpc>
                <a:spcPct val="120000"/>
              </a:lnSpc>
              <a:spcBef>
                <a:spcPts val="326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 Narrow"/>
              </a:rPr>
              <a:t>Set your Connection Speed</a:t>
            </a:r>
            <a:r>
              <a:rPr b="0" lang="en-US" sz="1300" spc="-1" strike="noStrike">
                <a:solidFill>
                  <a:srgbClr val="003399"/>
                </a:solidFill>
                <a:latin typeface="Arial Narrow"/>
              </a:rPr>
              <a:t> </a:t>
            </a:r>
            <a:endParaRPr b="0" lang="en-US" sz="13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lnSpc>
                <a:spcPct val="120000"/>
              </a:lnSpc>
              <a:spcBef>
                <a:spcPts val="400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Narrow"/>
              </a:rPr>
              <a:t>PC:   Tools </a:t>
            </a:r>
            <a:r>
              <a:rPr b="0" lang="en-US" sz="16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3399"/>
                </a:solidFill>
                <a:latin typeface="Arial Narrow"/>
              </a:rPr>
              <a:t> Preferences </a:t>
            </a:r>
            <a:r>
              <a:rPr b="0" lang="en-US" sz="16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3399"/>
                </a:solidFill>
                <a:latin typeface="Arial Narrow"/>
              </a:rPr>
              <a:t> Session Connection</a:t>
            </a:r>
            <a:endParaRPr b="0" lang="en-US" sz="16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lnSpc>
                <a:spcPct val="120000"/>
              </a:lnSpc>
              <a:spcBef>
                <a:spcPts val="400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Narrow"/>
              </a:rPr>
              <a:t>Mac: Elluminate </a:t>
            </a:r>
            <a:r>
              <a:rPr b="0" i="1" lang="en-US" sz="1600" spc="-1" strike="noStrike">
                <a:solidFill>
                  <a:srgbClr val="003399"/>
                </a:solidFill>
                <a:latin typeface="Arial Narrow"/>
              </a:rPr>
              <a:t>Live! </a:t>
            </a:r>
            <a:r>
              <a:rPr b="0" lang="en-US" sz="16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3399"/>
                </a:solidFill>
                <a:latin typeface="Arial Narrow"/>
              </a:rPr>
              <a:t> Preferences </a:t>
            </a:r>
            <a:r>
              <a:rPr b="0" lang="en-US" sz="16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3399"/>
                </a:solidFill>
                <a:latin typeface="Arial Narrow"/>
              </a:rPr>
              <a:t> Session Connection</a:t>
            </a:r>
            <a:endParaRPr b="0" lang="en-US" sz="16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3408480" y="2241720"/>
            <a:ext cx="6949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6"/>
          <p:cNvSpPr/>
          <p:nvPr/>
        </p:nvSpPr>
        <p:spPr>
          <a:xfrm>
            <a:off x="3193920" y="2146320"/>
            <a:ext cx="695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3313080" y="2165400"/>
            <a:ext cx="695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8"/>
          <p:cNvSpPr/>
          <p:nvPr/>
        </p:nvSpPr>
        <p:spPr>
          <a:xfrm>
            <a:off x="2898720" y="4013280"/>
            <a:ext cx="695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17" descr=""/>
          <p:cNvPicPr/>
          <p:nvPr/>
        </p:nvPicPr>
        <p:blipFill>
          <a:blip r:embed="rId1"/>
          <a:stretch/>
        </p:blipFill>
        <p:spPr>
          <a:xfrm>
            <a:off x="2712960" y="2133720"/>
            <a:ext cx="363852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25160" y="255600"/>
            <a:ext cx="5916600" cy="6429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 Black"/>
              </a:rPr>
              <a:t>Participants Window</a:t>
            </a:r>
            <a:endParaRPr b="0" lang="en-US" sz="2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51000" y="1117080"/>
            <a:ext cx="6092640" cy="1955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-257040">
              <a:lnSpc>
                <a:spcPct val="120000"/>
              </a:lnSpc>
              <a:spcBef>
                <a:spcPts val="374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 Narrow"/>
              </a:rPr>
              <a:t>Raise/Lower Hand</a:t>
            </a: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-257040">
              <a:lnSpc>
                <a:spcPct val="120000"/>
              </a:lnSpc>
              <a:spcBef>
                <a:spcPts val="374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 Narrow"/>
              </a:rPr>
              <a:t>Emoticons</a:t>
            </a: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-257040">
              <a:lnSpc>
                <a:spcPct val="120000"/>
              </a:lnSpc>
              <a:spcBef>
                <a:spcPts val="374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 Narrow"/>
              </a:rPr>
              <a:t>Polling</a:t>
            </a: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-257040">
              <a:lnSpc>
                <a:spcPct val="120000"/>
              </a:lnSpc>
              <a:spcBef>
                <a:spcPts val="374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 Narrow"/>
              </a:rPr>
              <a:t>Step Away</a:t>
            </a: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3408480" y="2443320"/>
            <a:ext cx="6949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3394080" y="2443320"/>
            <a:ext cx="695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3193920" y="2347920"/>
            <a:ext cx="695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3313080" y="2367000"/>
            <a:ext cx="695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3"/>
          <p:cNvSpPr/>
          <p:nvPr/>
        </p:nvSpPr>
        <p:spPr>
          <a:xfrm>
            <a:off x="2898720" y="4214880"/>
            <a:ext cx="695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5"/>
          <p:cNvSpPr/>
          <p:nvPr/>
        </p:nvSpPr>
        <p:spPr>
          <a:xfrm>
            <a:off x="3524400" y="3835440"/>
            <a:ext cx="6949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25" descr="PPTA"/>
          <p:cNvPicPr/>
          <p:nvPr/>
        </p:nvPicPr>
        <p:blipFill>
          <a:blip r:embed="rId1"/>
          <a:stretch/>
        </p:blipFill>
        <p:spPr>
          <a:xfrm>
            <a:off x="2789280" y="1355760"/>
            <a:ext cx="312084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768320" y="76320"/>
            <a:ext cx="51818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 Black"/>
              </a:rPr>
              <a:t>Audio</a:t>
            </a:r>
            <a:endParaRPr b="0" lang="en-US" sz="2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7360" y="1294920"/>
            <a:ext cx="6175440" cy="33195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-257040">
              <a:spcBef>
                <a:spcPts val="374"/>
              </a:spcBef>
              <a:buClr>
                <a:srgbClr val="99ccff"/>
              </a:buClr>
              <a:buFont typeface="Arial Narrow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 Narrow"/>
              </a:rPr>
              <a:t>Permission to use Microphone</a:t>
            </a: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0">
              <a:spcBef>
                <a:spcPts val="275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1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-257040">
              <a:spcBef>
                <a:spcPts val="374"/>
              </a:spcBef>
              <a:buClr>
                <a:srgbClr val="99ccff"/>
              </a:buClr>
              <a:buFont typeface="Arial Narrow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 Narrow"/>
              </a:rPr>
              <a:t>Audio Setup Utility</a:t>
            </a: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buClr>
                <a:srgbClr val="99ccff"/>
              </a:buClr>
              <a:buFont typeface="Arial Narrow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Tools </a:t>
            </a:r>
            <a:r>
              <a:rPr b="0" lang="en-US" sz="18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 Audio </a:t>
            </a:r>
            <a:r>
              <a:rPr b="0" lang="en-US" sz="18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 Audio Setup Wizard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0">
              <a:spcBef>
                <a:spcPts val="374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0">
              <a:spcBef>
                <a:spcPts val="374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0">
              <a:spcBef>
                <a:spcPts val="374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-257040">
              <a:spcBef>
                <a:spcPts val="374"/>
              </a:spcBef>
              <a:buClr>
                <a:srgbClr val="99ccff"/>
              </a:buClr>
              <a:buFont typeface="Arial Narrow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 Narrow"/>
              </a:rPr>
              <a:t>Optimal Microphone Setting</a:t>
            </a: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</p:txBody>
      </p:sp>
      <p:pic>
        <p:nvPicPr>
          <p:cNvPr id="410" name="Picture 32" descr="audiowindow"/>
          <p:cNvPicPr/>
          <p:nvPr/>
        </p:nvPicPr>
        <p:blipFill>
          <a:blip r:embed="rId1"/>
          <a:stretch/>
        </p:blipFill>
        <p:spPr>
          <a:xfrm>
            <a:off x="808200" y="3657600"/>
            <a:ext cx="2280960" cy="9525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3" descr=""/>
          <p:cNvPicPr/>
          <p:nvPr/>
        </p:nvPicPr>
        <p:blipFill>
          <a:blip r:embed="rId2"/>
          <a:stretch/>
        </p:blipFill>
        <p:spPr>
          <a:xfrm>
            <a:off x="2865600" y="1306440"/>
            <a:ext cx="228600" cy="21744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551040" y="3255480"/>
            <a:ext cx="3051000" cy="9572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99ccff"/>
              </a:buClr>
              <a:buFont typeface="Arial Narrow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pic>
        <p:nvPicPr>
          <p:cNvPr id="413" name="Picture 34" descr=""/>
          <p:cNvPicPr/>
          <p:nvPr/>
        </p:nvPicPr>
        <p:blipFill>
          <a:blip r:embed="rId3"/>
          <a:stretch/>
        </p:blipFill>
        <p:spPr>
          <a:xfrm>
            <a:off x="3322800" y="2352600"/>
            <a:ext cx="240012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28240" y="295200"/>
            <a:ext cx="4737240" cy="542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 Black"/>
              </a:rPr>
              <a:t>Chat Window</a:t>
            </a:r>
            <a:endParaRPr b="0" lang="en-US" sz="2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91960" y="1142640"/>
            <a:ext cx="5037120" cy="365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-257040">
              <a:spcBef>
                <a:spcPts val="374"/>
              </a:spcBef>
              <a:spcAft>
                <a:spcPts val="374"/>
              </a:spcAft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 Narrow"/>
              </a:rPr>
              <a:t>Permission to use Chat</a:t>
            </a: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-257040">
              <a:spcBef>
                <a:spcPts val="374"/>
              </a:spcBef>
              <a:spcAft>
                <a:spcPts val="374"/>
              </a:spcAft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 Narrow"/>
              </a:rPr>
              <a:t>Send a Text Message</a:t>
            </a: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spcBef>
                <a:spcPts val="451"/>
              </a:spcBef>
              <a:spcAft>
                <a:spcPts val="451"/>
              </a:spcAft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Public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spcBef>
                <a:spcPts val="451"/>
              </a:spcBef>
              <a:spcAft>
                <a:spcPts val="451"/>
              </a:spcAft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Private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2322360" y="847800"/>
            <a:ext cx="695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2452680" y="3735360"/>
            <a:ext cx="695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3" descr="chatwindow"/>
          <p:cNvPicPr/>
          <p:nvPr/>
        </p:nvPicPr>
        <p:blipFill>
          <a:blip r:embed="rId1"/>
          <a:stretch/>
        </p:blipFill>
        <p:spPr>
          <a:xfrm>
            <a:off x="2562120" y="1676520"/>
            <a:ext cx="3367080" cy="23652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4" descr=""/>
          <p:cNvPicPr/>
          <p:nvPr/>
        </p:nvPicPr>
        <p:blipFill>
          <a:blip r:embed="rId2"/>
          <a:stretch/>
        </p:blipFill>
        <p:spPr>
          <a:xfrm>
            <a:off x="2332080" y="1143000"/>
            <a:ext cx="35568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722240" y="187200"/>
            <a:ext cx="3360600" cy="727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 Black"/>
              </a:rPr>
              <a:t>Whiteboard Tools</a:t>
            </a:r>
            <a:endParaRPr b="0" lang="en-US" sz="2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91600" y="1141560"/>
            <a:ext cx="4496040" cy="39621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-257040">
              <a:lnSpc>
                <a:spcPct val="150000"/>
              </a:lnSpc>
              <a:spcBef>
                <a:spcPts val="374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 Narrow"/>
              </a:rPr>
              <a:t>Permission to use the Whiteboard</a:t>
            </a: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0">
              <a:lnSpc>
                <a:spcPct val="150000"/>
              </a:lnSpc>
              <a:spcBef>
                <a:spcPts val="275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1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-257040">
              <a:lnSpc>
                <a:spcPct val="150000"/>
              </a:lnSpc>
              <a:spcBef>
                <a:spcPts val="374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 Narrow"/>
              </a:rPr>
              <a:t>Tools</a:t>
            </a: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22" name="Rectangle 4"/>
          <p:cNvSpPr/>
          <p:nvPr/>
        </p:nvSpPr>
        <p:spPr>
          <a:xfrm>
            <a:off x="3379680" y="2424240"/>
            <a:ext cx="695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51"/>
          <p:cNvGrpSpPr/>
          <p:nvPr/>
        </p:nvGrpSpPr>
        <p:grpSpPr>
          <a:xfrm>
            <a:off x="632160" y="1828800"/>
            <a:ext cx="5074560" cy="2141640"/>
            <a:chOff x="632160" y="1828800"/>
            <a:chExt cx="5074560" cy="2141640"/>
          </a:xfrm>
        </p:grpSpPr>
        <p:pic>
          <p:nvPicPr>
            <p:cNvPr id="424" name="Picture 16" descr=""/>
            <p:cNvPicPr/>
            <p:nvPr/>
          </p:nvPicPr>
          <p:blipFill>
            <a:blip r:embed="rId1"/>
            <a:srcRect l="30655" t="18738" r="64524" b="58650"/>
            <a:stretch/>
          </p:blipFill>
          <p:spPr>
            <a:xfrm>
              <a:off x="3065400" y="1828800"/>
              <a:ext cx="608040" cy="21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Line 18"/>
            <p:cNvSpPr/>
            <p:nvPr/>
          </p:nvSpPr>
          <p:spPr>
            <a:xfrm>
              <a:off x="2455920" y="2055960"/>
              <a:ext cx="6094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4200" bIns="-342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>
              <a:off x="2455920" y="2330640"/>
              <a:ext cx="6094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4200" bIns="-342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>
              <a:off x="2457360" y="2605320"/>
              <a:ext cx="60984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4200" bIns="-342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21"/>
            <p:cNvSpPr/>
            <p:nvPr/>
          </p:nvSpPr>
          <p:spPr>
            <a:xfrm>
              <a:off x="2455920" y="2832120"/>
              <a:ext cx="6094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4200" bIns="-342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2"/>
            <p:cNvSpPr/>
            <p:nvPr/>
          </p:nvSpPr>
          <p:spPr>
            <a:xfrm>
              <a:off x="2455920" y="3070440"/>
              <a:ext cx="6094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4200" bIns="-342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23"/>
            <p:cNvSpPr/>
            <p:nvPr/>
          </p:nvSpPr>
          <p:spPr>
            <a:xfrm>
              <a:off x="2455920" y="3308400"/>
              <a:ext cx="6094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4200" bIns="-342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24"/>
            <p:cNvSpPr/>
            <p:nvPr/>
          </p:nvSpPr>
          <p:spPr>
            <a:xfrm>
              <a:off x="2455920" y="3564000"/>
              <a:ext cx="6094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4200" bIns="-342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>
              <a:off x="2455920" y="3792600"/>
              <a:ext cx="6094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4200" bIns="-342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27"/>
            <p:cNvSpPr/>
            <p:nvPr/>
          </p:nvSpPr>
          <p:spPr>
            <a:xfrm flipH="1">
              <a:off x="3674880" y="2057400"/>
              <a:ext cx="53316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4200" bIns="-342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28"/>
            <p:cNvSpPr/>
            <p:nvPr/>
          </p:nvSpPr>
          <p:spPr>
            <a:xfrm flipH="1">
              <a:off x="3674880" y="2330640"/>
              <a:ext cx="53316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4200" bIns="-342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29"/>
            <p:cNvSpPr/>
            <p:nvPr/>
          </p:nvSpPr>
          <p:spPr>
            <a:xfrm flipH="1">
              <a:off x="3674880" y="2605320"/>
              <a:ext cx="53316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4200" bIns="-342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30"/>
            <p:cNvSpPr/>
            <p:nvPr/>
          </p:nvSpPr>
          <p:spPr>
            <a:xfrm flipH="1">
              <a:off x="3674880" y="2832120"/>
              <a:ext cx="53316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4200" bIns="-342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31"/>
            <p:cNvSpPr/>
            <p:nvPr/>
          </p:nvSpPr>
          <p:spPr>
            <a:xfrm flipH="1">
              <a:off x="3674880" y="3070440"/>
              <a:ext cx="53316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4200" bIns="-342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32"/>
            <p:cNvSpPr/>
            <p:nvPr/>
          </p:nvSpPr>
          <p:spPr>
            <a:xfrm flipH="1">
              <a:off x="3674880" y="3305160"/>
              <a:ext cx="53316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4200" bIns="-342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33"/>
            <p:cNvSpPr/>
            <p:nvPr/>
          </p:nvSpPr>
          <p:spPr>
            <a:xfrm flipH="1">
              <a:off x="3674880" y="3564000"/>
              <a:ext cx="53316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4200" bIns="-342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 Box 36"/>
            <p:cNvSpPr/>
            <p:nvPr/>
          </p:nvSpPr>
          <p:spPr>
            <a:xfrm>
              <a:off x="3631680" y="3210120"/>
              <a:ext cx="188244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marL="555480" indent="-21240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ser Poin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37"/>
            <p:cNvSpPr/>
            <p:nvPr/>
          </p:nvSpPr>
          <p:spPr>
            <a:xfrm>
              <a:off x="3634200" y="3457800"/>
              <a:ext cx="145548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marL="555480" indent="-21240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ip A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38"/>
            <p:cNvSpPr/>
            <p:nvPr/>
          </p:nvSpPr>
          <p:spPr>
            <a:xfrm>
              <a:off x="3629520" y="2952720"/>
              <a:ext cx="207720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marL="555480" indent="-21240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lled Rectang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39"/>
            <p:cNvSpPr/>
            <p:nvPr/>
          </p:nvSpPr>
          <p:spPr>
            <a:xfrm>
              <a:off x="3630240" y="2724120"/>
              <a:ext cx="184104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marL="555480" indent="-21240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lled Ellip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40"/>
            <p:cNvSpPr/>
            <p:nvPr/>
          </p:nvSpPr>
          <p:spPr>
            <a:xfrm>
              <a:off x="3627720" y="1952640"/>
              <a:ext cx="138240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marL="555480" indent="-21240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ras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41"/>
            <p:cNvSpPr/>
            <p:nvPr/>
          </p:nvSpPr>
          <p:spPr>
            <a:xfrm>
              <a:off x="3631320" y="2210040"/>
              <a:ext cx="171000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marL="555480" indent="-21240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ighligh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42"/>
            <p:cNvSpPr/>
            <p:nvPr/>
          </p:nvSpPr>
          <p:spPr>
            <a:xfrm>
              <a:off x="3630240" y="2486160"/>
              <a:ext cx="170244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marL="555480" indent="-21240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xt Edi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43"/>
            <p:cNvSpPr/>
            <p:nvPr/>
          </p:nvSpPr>
          <p:spPr>
            <a:xfrm>
              <a:off x="1108440" y="1933560"/>
              <a:ext cx="158508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marL="555480" indent="-21240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44"/>
            <p:cNvSpPr/>
            <p:nvPr/>
          </p:nvSpPr>
          <p:spPr>
            <a:xfrm>
              <a:off x="1492920" y="2210040"/>
              <a:ext cx="118584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marL="555480" indent="-21240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45"/>
            <p:cNvSpPr/>
            <p:nvPr/>
          </p:nvSpPr>
          <p:spPr>
            <a:xfrm>
              <a:off x="1472400" y="2495520"/>
              <a:ext cx="12193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marL="555480" indent="-21240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46"/>
            <p:cNvSpPr/>
            <p:nvPr/>
          </p:nvSpPr>
          <p:spPr>
            <a:xfrm>
              <a:off x="1308600" y="2724120"/>
              <a:ext cx="13993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marL="555480" indent="-21240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llip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47"/>
            <p:cNvSpPr/>
            <p:nvPr/>
          </p:nvSpPr>
          <p:spPr>
            <a:xfrm>
              <a:off x="1069920" y="2962440"/>
              <a:ext cx="163548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marL="555480" indent="-21240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ctang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48"/>
            <p:cNvSpPr/>
            <p:nvPr/>
          </p:nvSpPr>
          <p:spPr>
            <a:xfrm>
              <a:off x="1477800" y="3210120"/>
              <a:ext cx="12193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marL="555480" indent="-21240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49"/>
            <p:cNvSpPr/>
            <p:nvPr/>
          </p:nvSpPr>
          <p:spPr>
            <a:xfrm>
              <a:off x="632160" y="3451320"/>
              <a:ext cx="20851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marL="555480" indent="-21240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mport an Im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50"/>
            <p:cNvSpPr/>
            <p:nvPr/>
          </p:nvSpPr>
          <p:spPr>
            <a:xfrm>
              <a:off x="678240" y="3676680"/>
              <a:ext cx="20347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marL="555480" indent="-21240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creen Captu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5" name="Picture 53" descr=""/>
          <p:cNvPicPr/>
          <p:nvPr/>
        </p:nvPicPr>
        <p:blipFill>
          <a:blip r:embed="rId2"/>
          <a:stretch/>
        </p:blipFill>
        <p:spPr>
          <a:xfrm>
            <a:off x="3017880" y="1262160"/>
            <a:ext cx="228600" cy="1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026800" y="230040"/>
            <a:ext cx="4807080" cy="727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 Black"/>
              </a:rPr>
              <a:t>Polling</a:t>
            </a:r>
            <a:endParaRPr b="0" lang="en-US" sz="2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027160" y="1141200"/>
            <a:ext cx="4724640" cy="3809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-257040">
              <a:lnSpc>
                <a:spcPct val="120000"/>
              </a:lnSpc>
              <a:spcBef>
                <a:spcPts val="374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 Narrow"/>
              </a:rPr>
              <a:t>Types</a:t>
            </a: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lnSpc>
                <a:spcPct val="120000"/>
              </a:lnSpc>
              <a:spcBef>
                <a:spcPts val="451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Yes/No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lnSpc>
                <a:spcPct val="120000"/>
              </a:lnSpc>
              <a:spcBef>
                <a:spcPts val="451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Multiple Choice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lnSpc>
                <a:spcPct val="120000"/>
              </a:lnSpc>
              <a:spcBef>
                <a:spcPts val="451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lowdown/Speedup Class Pace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0">
              <a:lnSpc>
                <a:spcPct val="120000"/>
              </a:lnSpc>
              <a:spcBef>
                <a:spcPts val="374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-257040">
              <a:lnSpc>
                <a:spcPct val="120000"/>
              </a:lnSpc>
              <a:spcBef>
                <a:spcPts val="374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 Narrow"/>
              </a:rPr>
              <a:t>Responses will appear in the Participants window if the moderator has selected to show them</a:t>
            </a: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58" name="Rectangle 14"/>
          <p:cNvSpPr/>
          <p:nvPr/>
        </p:nvSpPr>
        <p:spPr>
          <a:xfrm>
            <a:off x="2452680" y="3835440"/>
            <a:ext cx="695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6"/>
          <p:cNvSpPr/>
          <p:nvPr/>
        </p:nvSpPr>
        <p:spPr>
          <a:xfrm>
            <a:off x="2322360" y="528480"/>
            <a:ext cx="695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25" descr=""/>
          <p:cNvPicPr/>
          <p:nvPr/>
        </p:nvPicPr>
        <p:blipFill>
          <a:blip r:embed="rId1"/>
          <a:stretch/>
        </p:blipFill>
        <p:spPr>
          <a:xfrm>
            <a:off x="3398760" y="1447920"/>
            <a:ext cx="276480" cy="3808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26" descr=""/>
          <p:cNvPicPr/>
          <p:nvPr/>
        </p:nvPicPr>
        <p:blipFill>
          <a:blip r:embed="rId2"/>
          <a:stretch/>
        </p:blipFill>
        <p:spPr>
          <a:xfrm>
            <a:off x="4008600" y="1828800"/>
            <a:ext cx="475920" cy="46656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27" descr=""/>
          <p:cNvPicPr/>
          <p:nvPr/>
        </p:nvPicPr>
        <p:blipFill>
          <a:blip r:embed="rId3"/>
          <a:stretch/>
        </p:blipFill>
        <p:spPr>
          <a:xfrm>
            <a:off x="5456160" y="2209680"/>
            <a:ext cx="304920" cy="4478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" descr="Participants_Window_Activity_Indicators.gif"/>
          <p:cNvPicPr/>
          <p:nvPr/>
        </p:nvPicPr>
        <p:blipFill>
          <a:blip r:embed="rId4"/>
          <a:srcRect l="31657" t="9862" r="0" b="0"/>
          <a:stretch/>
        </p:blipFill>
        <p:spPr>
          <a:xfrm>
            <a:off x="4160880" y="96840"/>
            <a:ext cx="1600200" cy="1351080"/>
          </a:xfrm>
          <a:prstGeom prst="rect">
            <a:avLst/>
          </a:prstGeom>
          <a:ln w="0">
            <a:noFill/>
          </a:ln>
        </p:spPr>
      </p:pic>
      <p:sp>
        <p:nvSpPr>
          <p:cNvPr id="464" name="Rectangle 12"/>
          <p:cNvSpPr/>
          <p:nvPr/>
        </p:nvSpPr>
        <p:spPr>
          <a:xfrm>
            <a:off x="5227560" y="1066680"/>
            <a:ext cx="304920" cy="3812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51000" y="75960"/>
            <a:ext cx="6254640" cy="5936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Resource Materials</a:t>
            </a: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54040" y="685440"/>
            <a:ext cx="6184800" cy="39020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34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 Narrow"/>
              </a:rPr>
              <a:t>Visit </a:t>
            </a:r>
            <a:r>
              <a:rPr b="1" lang="en-US" sz="1400" spc="-1" strike="noStrike" u="sng">
                <a:solidFill>
                  <a:srgbClr val="233e99"/>
                </a:solidFill>
                <a:uFillTx/>
                <a:latin typeface="Arial Narrow"/>
              </a:rPr>
              <a:t>www.elluminate.com/training</a:t>
            </a:r>
            <a:r>
              <a:rPr b="0" lang="en-US" sz="1400" spc="-1" strike="noStrike">
                <a:solidFill>
                  <a:srgbClr val="003399"/>
                </a:solidFill>
                <a:latin typeface="Arial Narrow"/>
              </a:rPr>
              <a:t> for: </a:t>
            </a:r>
            <a:endParaRPr b="0" lang="en-US" sz="14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lnSpc>
                <a:spcPct val="90000"/>
              </a:lnSpc>
              <a:spcBef>
                <a:spcPts val="326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User Guides</a:t>
            </a:r>
            <a:endParaRPr b="0" lang="en-US" sz="13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lnSpc>
                <a:spcPct val="90000"/>
              </a:lnSpc>
              <a:spcBef>
                <a:spcPts val="326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Quick Reference Guides</a:t>
            </a:r>
            <a:endParaRPr b="0" lang="en-US" sz="13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lnSpc>
                <a:spcPct val="90000"/>
              </a:lnSpc>
              <a:spcBef>
                <a:spcPts val="326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Recorded Training Sessions</a:t>
            </a:r>
            <a:endParaRPr b="0" lang="en-US" sz="13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lnSpc>
                <a:spcPct val="90000"/>
              </a:lnSpc>
              <a:spcBef>
                <a:spcPts val="326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Register for Live Training Sessions</a:t>
            </a:r>
            <a:endParaRPr b="0" lang="en-US" sz="13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-257040">
              <a:spcBef>
                <a:spcPts val="34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 Narrow"/>
              </a:rPr>
              <a:t>Elluminate Technical Support </a:t>
            </a:r>
            <a:r>
              <a:rPr b="1" lang="en-US" sz="1400" spc="-1" strike="noStrike" u="sng">
                <a:solidFill>
                  <a:srgbClr val="333399"/>
                </a:solidFill>
                <a:uFillTx/>
                <a:latin typeface="Arial Narrow"/>
              </a:rPr>
              <a:t>http://www.elluminate.com/support/</a:t>
            </a:r>
            <a:r>
              <a:rPr b="0" i="1" lang="en-US" sz="1400" spc="-1" strike="noStrike" u="sng">
                <a:solidFill>
                  <a:srgbClr val="333399"/>
                </a:solidFill>
                <a:uFillTx/>
                <a:latin typeface="Arial Narrow"/>
              </a:rPr>
              <a:t> </a:t>
            </a:r>
            <a:endParaRPr b="0" lang="en-US" sz="14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4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 Narrow"/>
              </a:rPr>
              <a:t>The Elluminate User Group available from </a:t>
            </a:r>
            <a:r>
              <a:rPr b="1" lang="en-US" sz="1600" spc="-1" strike="noStrike" u="sng">
                <a:solidFill>
                  <a:srgbClr val="233e99"/>
                </a:solidFill>
                <a:uFillTx/>
                <a:latin typeface="Arial Narrow"/>
              </a:rPr>
              <a:t>www.learncentral.com</a:t>
            </a:r>
            <a:endParaRPr b="0" lang="en-US" sz="16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4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-257040">
              <a:lnSpc>
                <a:spcPct val="90000"/>
              </a:lnSpc>
              <a:spcBef>
                <a:spcPts val="34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 Narrow"/>
              </a:rPr>
              <a:t>3 for Free vRoom </a:t>
            </a:r>
            <a:r>
              <a:rPr b="1" lang="en-US" sz="1400" spc="-1" strike="noStrike" u="sng">
                <a:solidFill>
                  <a:srgbClr val="233e99"/>
                </a:solidFill>
                <a:uFillTx/>
                <a:latin typeface="Arial Narrow"/>
              </a:rPr>
              <a:t>www.elluminate.com/vroom/</a:t>
            </a:r>
            <a:endParaRPr b="0" lang="en-US" sz="1400" spc="-1" strike="noStrike">
              <a:solidFill>
                <a:srgbClr val="003399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5T17:48:14Z</dcterms:created>
  <dc:creator>Training</dc:creator>
  <dc:description/>
  <dc:language>en-US</dc:language>
  <cp:lastModifiedBy> </cp:lastModifiedBy>
  <dcterms:modified xsi:type="dcterms:W3CDTF">2009-06-25T16:25:51Z</dcterms:modified>
  <cp:revision>203</cp:revision>
  <dc:subject/>
  <dc:title>Elluminate, Inc</dc:title>
</cp:coreProperties>
</file>