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6951663" cy="5029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70000" y="720360"/>
            <a:ext cx="49752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1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C93EF2-9A9D-4B69-A68F-79CEC8E839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981A9-3D9A-44C2-88B1-03CAF6DB46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9752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AE5D2-55A0-4410-8384-6C5B1E8F3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72ECE-ED5A-40F7-8D2A-5E80BA8A6C5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A3F8E-D249-49B7-BED3-4C9FB570F3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EA5CD-882F-4F52-9388-66E26511F1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0C3B0-A51C-485A-9711-46AC8781C00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173B6-B23E-4415-8C46-4C43AFF69A0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C99D0-CCA1-42A8-9D35-6E932127FC8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7BF9C-C538-4CDD-B3C3-CD74BB87845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9FE53-2FD2-4D93-A3A2-89232B2654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B67C3-28A4-4C05-81CE-5A86759F59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B592F-0223-466C-A36A-39135D515EF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00CF2-73F7-4EC0-B179-F53AAA4D0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F5B50-0812-404A-959B-A1D54EB1BFE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AE64E-C7FD-4B33-BB48-D4F8450375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FDDB-0B03-4DA5-BB53-15D4A92FA3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3D269-9F2C-45B3-BBB1-492A8AD5942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F4E13-9DF9-4905-A0B6-0E5D33BA56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ED8A-AB1A-475C-92E8-EB2EF6849EC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8379-8343-422E-AF70-62D97E75076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CB5D-2F1F-4D9F-B24B-D2BC521CA9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302-B207-466D-8F05-3BABF704C2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4DDA0-5AA2-4F79-9B7B-42B0002FA8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FD937-7F79-4161-AB54-A557735CDF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9C6-3B17-4A70-8E1C-8F6170D91E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5B03-636C-4F94-B297-C9814691B2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B15A-EDD2-4297-AEB3-3D100CC21B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6C00-0E51-4B33-9B64-0F47F50E18E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A193-A7FD-4FEC-A3CE-E1118DF3AA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C12C-0806-41EE-83AD-F17B61C09A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73D6-A3A0-41F1-B9C9-77CBD80B02B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C7DCA1-EFCC-4CC3-B111-5C87B8E8A9D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A5DFFD-A2F9-4F86-A6DB-1D2DF9A1F1FE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646A2-EB50-4CCC-A19C-945A33F44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EEC66-70DD-4EC7-8793-C94731FCEC0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5D683-EF37-4F1D-BDE2-E0BFBCBA85C4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159CB-3D90-465B-8E88-F49FB5BA76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4467E-CEAB-4765-A43C-6CB696A5DDB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74A622-DDD4-4F80-80C6-5A7E657B41D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ADC2D-02A2-41AD-8A34-464F6737F87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14749-FF1A-401A-8CAC-3DDEC2DAE01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0B634C-C880-47C8-8822-7E459180E91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11BC16-57E9-451C-A976-BBCF21A0815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CC77D-E419-4CAD-A13B-EB3761AFD89A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649B9A-119E-4FB8-B4CB-8436530D0E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02B6D-2771-4102-A131-3333584A12B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5722D-C29E-4619-AD9D-5AF18B7EC966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8EC37F-88EA-476B-9061-03FEDD8A645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63ED06-8F8D-4EF1-8408-5F3200DC899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4A57DC-94D2-4AC3-9429-1797B579BD2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B8049-61FF-4119-B53A-C4EC2AF4330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F45EB0-55C5-4164-AE0F-3A596E01437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17DF7-47AD-4E0D-8904-0F370E482D9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04473-D021-4AEC-AC2C-B4A866C3218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F8703-C466-4AAC-8ED1-BBC2B86A144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E0416B-5E1B-47BF-B451-C57B32B2F6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89FBA-70FB-4E50-AC23-21E9D3C2C4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C97685-AFAB-401A-B542-05B5096B55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E545E-874E-4738-AB29-0557A8458A3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DCD8-D301-446F-9C75-EA7039113E3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36218-0216-4EF5-8228-BA5C50B63C8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D0DE8-D394-4E11-8017-B0CC48CA9CCE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4444D-72D3-4421-B1AF-7CCE7F35BBA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A3AC2-BA83-4544-85B4-0ACD6A8E265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D8030-5C4B-4DB2-A922-E2EC8E8732C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BC23-5518-400C-B242-C300851F8B2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A77F-4D8C-4BE2-ACE1-0B91BEE62E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CF0F8-DE87-454C-B4E5-C64F7A2659F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F180-F536-4F03-BEC0-D4A8050DA84F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F6C7-51A2-4EED-BA6B-2DB156C6A11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7482-9776-49D5-A257-D6D93D64206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6C17984-DF49-4195-B4D5-5384DF340C6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B896854-B5F8-4C8B-99E0-73805F4331AB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E2A7FBA-336E-4AC3-9AEA-96517ADC37F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B65112E-1711-4678-B538-FCA9E57FCC1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7C17EE9-D4F8-4C43-A6F6-87F1018E84E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96B279-0B92-473C-8C1F-5CCC2729EFB5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8B23CCA-CF9F-41B1-88F5-64078AE4B4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69AB6-3F3E-48F7-A2F5-A9F714AC259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CC8908-6F94-4244-A217-5A36260A75B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A674D4-3834-4092-AC5C-3C852AF76DC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4AA88-C3F8-49A2-9F24-977E678FE1D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355475-DE99-4BBD-8614-C2D42BB60D55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1DB5F-823F-4E57-97C5-E6AE810A812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C08DB-369B-488B-AE50-7CA17FC9DB6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5CE82C-D82D-481E-B959-D52333E78E2D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009A3-1891-42EA-B318-A1F53AD6A27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18584-7F63-45D1-A49E-ED14AC4BFA1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9B613-AE04-48C6-A329-0FF0B60410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B4CC9-9010-4635-AA98-A77D0A9E042A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BA3995-0BA8-465E-9B9C-C661BE90325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943203-3662-4029-882E-B1219267223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44DAE-5CCB-45DA-B48E-D6AFE3F481C7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9606F8-4963-4795-B81E-77A3C60F3123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00A317-635E-4E3A-9155-1D646CB9D4E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DE15EC2-96EC-4029-ABFD-2266DFE387E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3FFF8-1C1A-4709-9565-553AD4A147A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glassesguy"/>
          <p:cNvPicPr/>
          <p:nvPr/>
        </p:nvPicPr>
        <p:blipFill>
          <a:blip r:embed="rId3"/>
          <a:stretch/>
        </p:blipFill>
        <p:spPr>
          <a:xfrm>
            <a:off x="4278240" y="3946680"/>
            <a:ext cx="2671920" cy="10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038200" y="4568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3F4F3-19E1-4C4D-8F65-FC76E1E332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8559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llumLogo"/>
          <p:cNvPicPr/>
          <p:nvPr/>
        </p:nvPicPr>
        <p:blipFill>
          <a:blip r:embed="rId2"/>
          <a:stretch/>
        </p:blipFill>
        <p:spPr>
          <a:xfrm>
            <a:off x="115920" y="5544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kidonlaptop"/>
          <p:cNvPicPr/>
          <p:nvPr/>
        </p:nvPicPr>
        <p:blipFill>
          <a:blip r:embed="rId3"/>
          <a:stretch/>
        </p:blipFill>
        <p:spPr>
          <a:xfrm>
            <a:off x="3822840" y="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7760" y="11509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7760" y="2066400"/>
            <a:ext cx="6254640" cy="190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1000"/>
          </a:bodyPr>
          <a:p>
            <a:pPr marL="208080" indent="-208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49640" indent="-17172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69300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97056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24704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E71E-1C8C-41AF-BEE2-D904291EA20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949320"/>
            <a:ext cx="6950160" cy="16812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sunrays"/>
          <p:cNvPicPr/>
          <p:nvPr/>
        </p:nvPicPr>
        <p:blipFill>
          <a:blip r:embed="rId3"/>
          <a:srcRect l="0" t="0" r="31859" b="35920"/>
          <a:stretch/>
        </p:blipFill>
        <p:spPr>
          <a:xfrm>
            <a:off x="4280040" y="24033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1CF67-9530-41C6-B521-EB21C382E3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42720" y="347760"/>
            <a:ext cx="387972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142720" y="1263600"/>
            <a:ext cx="4459320" cy="27036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20219-9C74-4652-8AA5-43C6752890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teacherguy"/>
          <p:cNvPicPr/>
          <p:nvPr/>
        </p:nvPicPr>
        <p:blipFill>
          <a:blip r:embed="rId2"/>
          <a:stretch/>
        </p:blipFill>
        <p:spPr>
          <a:xfrm>
            <a:off x="0" y="2465280"/>
            <a:ext cx="1852560" cy="256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EllumLogo"/>
          <p:cNvPicPr/>
          <p:nvPr/>
        </p:nvPicPr>
        <p:blipFill>
          <a:blip r:embed="rId3"/>
          <a:stretch/>
        </p:blipFill>
        <p:spPr>
          <a:xfrm>
            <a:off x="0" y="1112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unrays"/>
          <p:cNvPicPr/>
          <p:nvPr/>
        </p:nvPicPr>
        <p:blipFill>
          <a:blip r:embed="rId2"/>
          <a:srcRect l="0" t="31859" r="35920" b="0"/>
          <a:stretch/>
        </p:blipFill>
        <p:spPr>
          <a:xfrm>
            <a:off x="4633920" y="0"/>
            <a:ext cx="2316240" cy="2062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EllumLogo"/>
          <p:cNvPicPr/>
          <p:nvPr/>
        </p:nvPicPr>
        <p:blipFill>
          <a:blip r:embed="rId3"/>
          <a:stretch/>
        </p:blipFill>
        <p:spPr>
          <a:xfrm>
            <a:off x="57240" y="554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7760" y="90648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47760" y="1877760"/>
            <a:ext cx="6254640" cy="2592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553F-BC4F-4F66-B14F-76F0B7FB4EC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EllumLogo"/>
          <p:cNvPicPr/>
          <p:nvPr/>
        </p:nvPicPr>
        <p:blipFill>
          <a:blip r:embed="rId2"/>
          <a:stretch/>
        </p:blipFill>
        <p:spPr>
          <a:xfrm>
            <a:off x="57240" y="55440"/>
            <a:ext cx="1738080" cy="930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949320"/>
            <a:ext cx="6950160" cy="4079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9080" y="1173240"/>
            <a:ext cx="62560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89080" y="2145960"/>
            <a:ext cx="625608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28CA2-4C49-4095-862C-847E0C48F0D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7760" y="117324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47760" y="2145960"/>
            <a:ext cx="625464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7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16115-C651-41C7-AA09-46838ED7C2C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10065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EllumLogo"/>
          <p:cNvPicPr/>
          <p:nvPr/>
        </p:nvPicPr>
        <p:blipFill>
          <a:blip r:embed="rId2"/>
          <a:stretch/>
        </p:blipFill>
        <p:spPr>
          <a:xfrm>
            <a:off x="14400" y="58680"/>
            <a:ext cx="16650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1480" y="223560"/>
            <a:ext cx="144756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8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66921-BAAC-4C37-8351-756C6E0741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4" descr="logowrays"/>
          <p:cNvPicPr/>
          <p:nvPr/>
        </p:nvPicPr>
        <p:blipFill>
          <a:blip r:embed="rId2"/>
          <a:srcRect l="6052" t="0" r="0" b="0"/>
          <a:stretch/>
        </p:blipFill>
        <p:spPr>
          <a:xfrm>
            <a:off x="-4680" y="2570040"/>
            <a:ext cx="1800000" cy="24591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5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body"/>
          </p:nvPr>
        </p:nvSpPr>
        <p:spPr>
          <a:xfrm>
            <a:off x="2199960" y="223920"/>
            <a:ext cx="4344840" cy="1620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68000"/>
          </a:bodyPr>
          <a:p>
            <a:pPr marL="174600" indent="-174600">
              <a:spcBef>
                <a:spcPts val="45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377640" indent="-144360">
              <a:spcBef>
                <a:spcPts val="451"/>
              </a:spcBef>
              <a:buClr>
                <a:srgbClr val="bbe0e3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58176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8146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0468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EllumLogo"/>
          <p:cNvPicPr/>
          <p:nvPr/>
        </p:nvPicPr>
        <p:blipFill>
          <a:blip r:embed="rId2"/>
          <a:stretch/>
        </p:blipFill>
        <p:spPr>
          <a:xfrm>
            <a:off x="0" y="349200"/>
            <a:ext cx="4257720" cy="2276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kidstitle"/>
          <p:cNvPicPr/>
          <p:nvPr/>
        </p:nvPicPr>
        <p:blipFill>
          <a:blip r:embed="rId3"/>
          <a:stretch/>
        </p:blipFill>
        <p:spPr>
          <a:xfrm>
            <a:off x="1187280" y="3116160"/>
            <a:ext cx="5762880" cy="19209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8"/>
          <p:cNvSpPr/>
          <p:nvPr/>
        </p:nvSpPr>
        <p:spPr>
          <a:xfrm>
            <a:off x="0" y="301788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9"/>
          </p:nvPr>
        </p:nvSpPr>
        <p:spPr>
          <a:xfrm>
            <a:off x="-360" y="435924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0"/>
          </p:nvPr>
        </p:nvSpPr>
        <p:spPr>
          <a:xfrm>
            <a:off x="-36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Copyright 2008 Elluminate, In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Copyright 2009 Elluminate, In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93640" y="1980720"/>
            <a:ext cx="4724280" cy="809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Elluminate </a:t>
            </a:r>
            <a:r>
              <a:rPr b="0" i="1" lang="en-US" sz="2600" spc="-1" strike="noStrike">
                <a:solidFill>
                  <a:srgbClr val="003399"/>
                </a:solidFill>
                <a:latin typeface="Arial Black"/>
              </a:rPr>
              <a:t>Live!  </a:t>
            </a: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v9.5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645920" y="2619360"/>
            <a:ext cx="4694040" cy="504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Narrow"/>
              </a:rPr>
              <a:t>Participant Orientation</a:t>
            </a:r>
            <a:endParaRPr b="0" lang="en-US" sz="2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9"/>
          <p:cNvSpPr/>
          <p:nvPr/>
        </p:nvSpPr>
        <p:spPr>
          <a:xfrm>
            <a:off x="2792520" y="3181320"/>
            <a:ext cx="1893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board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H="1" flipV="1">
            <a:off x="3141360" y="2743200"/>
            <a:ext cx="2286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1722600" y="0"/>
            <a:ext cx="480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The Participant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6" descr="participantsinterface"/>
          <p:cNvPicPr/>
          <p:nvPr/>
        </p:nvPicPr>
        <p:blipFill>
          <a:blip r:embed="rId1"/>
          <a:stretch/>
        </p:blipFill>
        <p:spPr>
          <a:xfrm>
            <a:off x="1038240" y="914400"/>
            <a:ext cx="5713560" cy="3695760"/>
          </a:xfrm>
          <a:prstGeom prst="rect">
            <a:avLst/>
          </a:prstGeom>
          <a:ln w="0">
            <a:noFill/>
          </a:ln>
        </p:spPr>
      </p:pic>
      <p:pic>
        <p:nvPicPr>
          <p:cNvPr id="388" name="Rectangular Callout 5" descr=""/>
          <p:cNvPicPr/>
          <p:nvPr/>
        </p:nvPicPr>
        <p:blipFill>
          <a:blip r:embed="rId2"/>
          <a:stretch/>
        </p:blipFill>
        <p:spPr>
          <a:xfrm>
            <a:off x="3676680" y="743040"/>
            <a:ext cx="1120680" cy="81108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ular Callout 6" descr=""/>
          <p:cNvPicPr/>
          <p:nvPr/>
        </p:nvPicPr>
        <p:blipFill>
          <a:blip r:embed="rId3"/>
          <a:stretch/>
        </p:blipFill>
        <p:spPr>
          <a:xfrm>
            <a:off x="19080" y="2798640"/>
            <a:ext cx="1103400" cy="57780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ular Callout 7" descr=""/>
          <p:cNvPicPr/>
          <p:nvPr/>
        </p:nvPicPr>
        <p:blipFill>
          <a:blip r:embed="rId4"/>
          <a:stretch/>
        </p:blipFill>
        <p:spPr>
          <a:xfrm>
            <a:off x="19080" y="3943440"/>
            <a:ext cx="110340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ular Callout 8" descr=""/>
          <p:cNvPicPr/>
          <p:nvPr/>
        </p:nvPicPr>
        <p:blipFill>
          <a:blip r:embed="rId5"/>
          <a:stretch/>
        </p:blipFill>
        <p:spPr>
          <a:xfrm>
            <a:off x="19080" y="1427040"/>
            <a:ext cx="11034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onnection Speed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26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t your Connection Speed</a:t>
            </a:r>
            <a:r>
              <a:rPr b="0" lang="en-US" sz="13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PC:   Tool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Mac: Elluminate </a:t>
            </a:r>
            <a:r>
              <a:rPr b="0" i="1" lang="en-US" sz="1600" spc="-1" strike="noStrike">
                <a:solidFill>
                  <a:srgbClr val="003399"/>
                </a:solidFill>
                <a:latin typeface="Arial Narrow"/>
              </a:rPr>
              <a:t>Live!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408480" y="22417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3193920" y="2146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313080" y="21654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2898720" y="40132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7" descr=""/>
          <p:cNvPicPr/>
          <p:nvPr/>
        </p:nvPicPr>
        <p:blipFill>
          <a:blip r:embed="rId1"/>
          <a:stretch/>
        </p:blipFill>
        <p:spPr>
          <a:xfrm>
            <a:off x="2712960" y="2133720"/>
            <a:ext cx="36385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160" y="255600"/>
            <a:ext cx="5916600" cy="6429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articipants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1000" y="1117080"/>
            <a:ext cx="6092640" cy="1955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aise/Lower Han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Emoticon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oll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tep Awa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408480" y="24433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394080" y="2443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193920" y="23479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313080" y="23670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2898720" y="42148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3524400" y="383544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5" descr="PPTA"/>
          <p:cNvPicPr/>
          <p:nvPr/>
        </p:nvPicPr>
        <p:blipFill>
          <a:blip r:embed="rId1"/>
          <a:stretch/>
        </p:blipFill>
        <p:spPr>
          <a:xfrm>
            <a:off x="2789280" y="1355760"/>
            <a:ext cx="31208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6832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Audio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7360" y="1294920"/>
            <a:ext cx="6175440" cy="3319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Microphon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Audio Setup Utilit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ools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Setup Wizard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Optimal Microphone Sett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0" name="Picture 32" descr="audiowindow"/>
          <p:cNvPicPr/>
          <p:nvPr/>
        </p:nvPicPr>
        <p:blipFill>
          <a:blip r:embed="rId1"/>
          <a:stretch/>
        </p:blipFill>
        <p:spPr>
          <a:xfrm>
            <a:off x="808200" y="3657600"/>
            <a:ext cx="22809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3" descr=""/>
          <p:cNvPicPr/>
          <p:nvPr/>
        </p:nvPicPr>
        <p:blipFill>
          <a:blip r:embed="rId2"/>
          <a:stretch/>
        </p:blipFill>
        <p:spPr>
          <a:xfrm>
            <a:off x="2865600" y="1306440"/>
            <a:ext cx="228600" cy="217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51040" y="3255480"/>
            <a:ext cx="3051000" cy="957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3" name="Picture 34" descr=""/>
          <p:cNvPicPr/>
          <p:nvPr/>
        </p:nvPicPr>
        <p:blipFill>
          <a:blip r:embed="rId3"/>
          <a:stretch/>
        </p:blipFill>
        <p:spPr>
          <a:xfrm>
            <a:off x="3322800" y="2352600"/>
            <a:ext cx="24001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240" y="295200"/>
            <a:ext cx="4737240" cy="542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hat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1960" y="1142640"/>
            <a:ext cx="5037120" cy="365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Chat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nd a Text Messag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ublic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rivat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2322360" y="8478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452680" y="373536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chatwindow"/>
          <p:cNvPicPr/>
          <p:nvPr/>
        </p:nvPicPr>
        <p:blipFill>
          <a:blip r:embed="rId1"/>
          <a:stretch/>
        </p:blipFill>
        <p:spPr>
          <a:xfrm>
            <a:off x="2562120" y="1676520"/>
            <a:ext cx="3367080" cy="2365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"/>
          <p:cNvPicPr/>
          <p:nvPr/>
        </p:nvPicPr>
        <p:blipFill>
          <a:blip r:embed="rId2"/>
          <a:stretch/>
        </p:blipFill>
        <p:spPr>
          <a:xfrm>
            <a:off x="2332080" y="1143000"/>
            <a:ext cx="355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22240" y="187200"/>
            <a:ext cx="336060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Whiteboard Tools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91600" y="1141560"/>
            <a:ext cx="4496040" cy="3962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the Whiteboar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ool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379680" y="24242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1"/>
          <p:cNvGrpSpPr/>
          <p:nvPr/>
        </p:nvGrpSpPr>
        <p:grpSpPr>
          <a:xfrm>
            <a:off x="632160" y="1828800"/>
            <a:ext cx="5074560" cy="2141640"/>
            <a:chOff x="632160" y="1828800"/>
            <a:chExt cx="5074560" cy="2141640"/>
          </a:xfrm>
        </p:grpSpPr>
        <p:pic>
          <p:nvPicPr>
            <p:cNvPr id="424" name="Picture 16" descr=""/>
            <p:cNvPicPr/>
            <p:nvPr/>
          </p:nvPicPr>
          <p:blipFill>
            <a:blip r:embed="rId1"/>
            <a:srcRect l="30655" t="18738" r="64524" b="58650"/>
            <a:stretch/>
          </p:blipFill>
          <p:spPr>
            <a:xfrm>
              <a:off x="3065400" y="1828800"/>
              <a:ext cx="60804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Line 18"/>
            <p:cNvSpPr/>
            <p:nvPr/>
          </p:nvSpPr>
          <p:spPr>
            <a:xfrm>
              <a:off x="2455920" y="205596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2455920" y="23306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>
              <a:off x="2457360" y="2605320"/>
              <a:ext cx="6098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1"/>
            <p:cNvSpPr/>
            <p:nvPr/>
          </p:nvSpPr>
          <p:spPr>
            <a:xfrm>
              <a:off x="2455920" y="283212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2"/>
            <p:cNvSpPr/>
            <p:nvPr/>
          </p:nvSpPr>
          <p:spPr>
            <a:xfrm>
              <a:off x="2455920" y="30704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455920" y="33084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455920" y="35640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455920" y="37926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3674880" y="20574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 flipH="1">
              <a:off x="3674880" y="23306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>
              <a:off x="3674880" y="26053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>
              <a:off x="3674880" y="28321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>
              <a:off x="3674880" y="30704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>
              <a:off x="3674880" y="330516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>
              <a:off x="3674880" y="35640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3631680" y="3210120"/>
              <a:ext cx="188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ser Poi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7"/>
            <p:cNvSpPr/>
            <p:nvPr/>
          </p:nvSpPr>
          <p:spPr>
            <a:xfrm>
              <a:off x="3634200" y="3457800"/>
              <a:ext cx="145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p 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8"/>
            <p:cNvSpPr/>
            <p:nvPr/>
          </p:nvSpPr>
          <p:spPr>
            <a:xfrm>
              <a:off x="3629520" y="2952720"/>
              <a:ext cx="2077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9"/>
            <p:cNvSpPr/>
            <p:nvPr/>
          </p:nvSpPr>
          <p:spPr>
            <a:xfrm>
              <a:off x="3630240" y="2724120"/>
              <a:ext cx="1841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0"/>
            <p:cNvSpPr/>
            <p:nvPr/>
          </p:nvSpPr>
          <p:spPr>
            <a:xfrm>
              <a:off x="3627720" y="1952640"/>
              <a:ext cx="13824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1"/>
            <p:cNvSpPr/>
            <p:nvPr/>
          </p:nvSpPr>
          <p:spPr>
            <a:xfrm>
              <a:off x="3631320" y="2210040"/>
              <a:ext cx="1710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ligh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42"/>
            <p:cNvSpPr/>
            <p:nvPr/>
          </p:nvSpPr>
          <p:spPr>
            <a:xfrm>
              <a:off x="3630240" y="2486160"/>
              <a:ext cx="170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 Ed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43"/>
            <p:cNvSpPr/>
            <p:nvPr/>
          </p:nvSpPr>
          <p:spPr>
            <a:xfrm>
              <a:off x="1108440" y="1933560"/>
              <a:ext cx="1585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4"/>
            <p:cNvSpPr/>
            <p:nvPr/>
          </p:nvSpPr>
          <p:spPr>
            <a:xfrm>
              <a:off x="1492920" y="2210040"/>
              <a:ext cx="11858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5"/>
            <p:cNvSpPr/>
            <p:nvPr/>
          </p:nvSpPr>
          <p:spPr>
            <a:xfrm>
              <a:off x="1472400" y="24955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46"/>
            <p:cNvSpPr/>
            <p:nvPr/>
          </p:nvSpPr>
          <p:spPr>
            <a:xfrm>
              <a:off x="1308600" y="2724120"/>
              <a:ext cx="139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47"/>
            <p:cNvSpPr/>
            <p:nvPr/>
          </p:nvSpPr>
          <p:spPr>
            <a:xfrm>
              <a:off x="1069920" y="2962440"/>
              <a:ext cx="163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8"/>
            <p:cNvSpPr/>
            <p:nvPr/>
          </p:nvSpPr>
          <p:spPr>
            <a:xfrm>
              <a:off x="1477800" y="32101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9"/>
            <p:cNvSpPr/>
            <p:nvPr/>
          </p:nvSpPr>
          <p:spPr>
            <a:xfrm>
              <a:off x="632160" y="3451320"/>
              <a:ext cx="2085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ort an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0"/>
            <p:cNvSpPr/>
            <p:nvPr/>
          </p:nvSpPr>
          <p:spPr>
            <a:xfrm>
              <a:off x="678240" y="3676680"/>
              <a:ext cx="20347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een Cap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53" descr=""/>
          <p:cNvPicPr/>
          <p:nvPr/>
        </p:nvPicPr>
        <p:blipFill>
          <a:blip r:embed="rId2"/>
          <a:stretch/>
        </p:blipFill>
        <p:spPr>
          <a:xfrm>
            <a:off x="3017880" y="1262160"/>
            <a:ext cx="2286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26800" y="230040"/>
            <a:ext cx="480708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olling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27160" y="1141200"/>
            <a:ext cx="4724640" cy="3809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ype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Yes/No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Multiple Choi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lowdown/Speedup Class Pa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esponses will appear in the Participants window if the moderator has selected to show them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2452680" y="38354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22360" y="5284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5" descr=""/>
          <p:cNvPicPr/>
          <p:nvPr/>
        </p:nvPicPr>
        <p:blipFill>
          <a:blip r:embed="rId1"/>
          <a:stretch/>
        </p:blipFill>
        <p:spPr>
          <a:xfrm>
            <a:off x="3398760" y="1447920"/>
            <a:ext cx="27648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6" descr=""/>
          <p:cNvPicPr/>
          <p:nvPr/>
        </p:nvPicPr>
        <p:blipFill>
          <a:blip r:embed="rId2"/>
          <a:stretch/>
        </p:blipFill>
        <p:spPr>
          <a:xfrm>
            <a:off x="4008600" y="1828800"/>
            <a:ext cx="475920" cy="466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7" descr=""/>
          <p:cNvPicPr/>
          <p:nvPr/>
        </p:nvPicPr>
        <p:blipFill>
          <a:blip r:embed="rId3"/>
          <a:stretch/>
        </p:blipFill>
        <p:spPr>
          <a:xfrm>
            <a:off x="5456160" y="2209680"/>
            <a:ext cx="304920" cy="447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Participants_Window_Activity_Indicators.gif"/>
          <p:cNvPicPr/>
          <p:nvPr/>
        </p:nvPicPr>
        <p:blipFill>
          <a:blip r:embed="rId4"/>
          <a:srcRect l="31657" t="9862" r="0" b="0"/>
          <a:stretch/>
        </p:blipFill>
        <p:spPr>
          <a:xfrm>
            <a:off x="4160880" y="96840"/>
            <a:ext cx="1600200" cy="1351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2"/>
          <p:cNvSpPr/>
          <p:nvPr/>
        </p:nvSpPr>
        <p:spPr>
          <a:xfrm>
            <a:off x="5227560" y="1066680"/>
            <a:ext cx="304920" cy="381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1000" y="75960"/>
            <a:ext cx="6254640" cy="593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Resource Materials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54040" y="685440"/>
            <a:ext cx="6184800" cy="3902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Visit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training</a:t>
            </a: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 for: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User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Quick Reference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corded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gister for Live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Elluminate Technical Support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http://www.elluminate.com/support/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The Elluminate User Group available from </a:t>
            </a:r>
            <a:r>
              <a:rPr b="1" lang="en-US" sz="1600" spc="-1" strike="noStrike" u="sng">
                <a:solidFill>
                  <a:srgbClr val="233e99"/>
                </a:solidFill>
                <a:uFillTx/>
                <a:latin typeface="Arial Narrow"/>
              </a:rPr>
              <a:t>www.learncentral.com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3 for Free vRoom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vroom/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48:14Z</dcterms:created>
  <dc:creator>Training</dc:creator>
  <dc:description/>
  <dc:language>en-US</dc:language>
  <cp:lastModifiedBy> </cp:lastModifiedBy>
  <dcterms:modified xsi:type="dcterms:W3CDTF">2009-06-25T16:25:51Z</dcterms:modified>
  <cp:revision>203</cp:revision>
  <dc:subject/>
  <dc:title>Elluminate, Inc</dc:title>
</cp:coreProperties>
</file>